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D04994-0A7F-4AD3-A8D0-FF04D2C96CD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5EC11D-B1B1-41A5-A1EE-9AD9BAF7BA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D86905-53E1-403A-BF8A-B91312ABA07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09AAF4-5E95-4E87-81D0-400892D63C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9B810F-CA5F-425E-AE41-906CA48847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196BCC-811F-4F1B-B7C2-EA79C83BB4E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875381-5F46-4F79-B59B-D8541F82FE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503512-AFC3-44F0-8FAE-271416E5D5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0AF298-1F5D-49E7-9C12-66969D4C63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D99DEA-B2FE-464E-B6B4-352A47119DA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 reacción conlleva la reducción de una segu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lécula de NAD+ a NADH y la generación de una segunda molécula de dióxido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rbono. Hasta aquí ya se han producido dos moléculas de dióxido de carbono, por l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que se ha completado la oxidación neta del grupo acetilo. Hay que resaltar que no 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átomos del grupo acetilo entrante los que han sido oxid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27E611-A19B-4681-8053-936DB95EBC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5CF745-6F8D-459F-8BFA-CE70B32742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01B7FD-C274-41F9-AB42-B579C33304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8C7DEC-4767-4630-A1BA-1A22B3B32B2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3BC1F8-450D-4429-B0A1-3D8BA9658B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269051-8B2D-4E74-BB02-C502FD1CF0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DFBEBE-C178-4506-BA54-03CE54BA2F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2EDC30-37CD-49BF-80F4-B23B7CFF89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BB8D6D-E7D4-4304-BB75-A85B48BB74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48A77D-0556-4413-8BD5-1CE487B4D9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85FD91-6AF1-4562-B4C5-A567672C4B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05340E-3491-4C73-B660-5A10734CBF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4FA89D-223A-44B4-8DA8-479667A199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EA1D33-900F-42B5-A189-99F268E284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FF43C4-B339-4B4F-9272-165E6BA449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33F671-AC6F-4C83-BA3D-3E2500F962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235D98-8AA2-479C-9626-6236AA998D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D8146F-24F0-4253-AC8F-3614CFEEE1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19086B4-B189-46B3-B505-1C281242F7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DEBA62-11A5-438B-879A-595761BE883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C77575-7BA9-4A4E-AA5B-D40A160B191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F869E0-62D3-40DE-A5CE-A2EAF93B17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B58653-A9CF-4DD6-BD4E-CF8B2EE7C3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7373BE1-A7BC-4E3A-ACF5-BE2655253D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6B5F26-BDED-45F0-8521-69B4C610C3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61CDCE-8976-4C18-A4C2-EDF5C3B0FD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E907C7-BB33-499C-BB98-73BDD180DB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50E981-5FCE-4C5E-9AE3-1C962240E4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62AD8E-2697-4879-8B44-7292B83313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57DE56-7773-4156-92B9-4DD73EA129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5501A9-87F2-43CE-ADD2-71662FC65F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3C1D-D62C-4E7E-B805-34089A8C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DA5-9B9A-4397-888D-2D5F31E5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4BA7-DCC9-49BF-BC3E-1878A8CC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81C-7ACE-4380-A259-CFC7CEA8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748-7C8A-426C-8C4C-FD2693D2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E00-EFAF-47FF-9B8A-9FC38724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B72-073B-40A4-80BB-E580BD5A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0860-048D-4F7A-A11B-603FA6FF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118-B46F-4A1C-95AD-F166AC7A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0D0-5E99-4856-91A5-81C07378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EB17-9A1B-4F6A-9D49-EA19E0F2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25F-72D8-4BEB-902A-1F7F8D88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CBDDB-5956-45BC-A61D-EFFD48A3D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4 (LBM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2000" spc="-1" strike="noStrike">
                <a:solidFill>
                  <a:srgbClr val="0000ff"/>
                </a:solidFill>
                <a:latin typeface="Arial"/>
              </a:rPr>
              <a:t>CICLO DE KREBS. Generalidades. Descarboxilación oxidativa: complejo de la piruvato deshidrogenasa. Regulación. Destino de la acetil CoA. Reacciones del ciclo. Balance energético. Regulación del ciclo</a:t>
            </a: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Función anfibólica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mpartimentalización mitocondrial. Translocasas. Lanzadera malato-aspartato. VIA DE LAS PENTOSAS. Etapas. Función. Enzimas implicadas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Relación con la glucólisis. Importancia metabó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4 (IA y LCTA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2000" spc="-1" strike="noStrike">
                <a:solidFill>
                  <a:srgbClr val="0000ff"/>
                </a:solidFill>
                <a:latin typeface="Arial"/>
              </a:rPr>
              <a:t>DESCARBOXILACION OXIDATIVA DEL PIRUVATO. Complejo de la piruvato deshidrogenasa. Regulación. Destino de la Acetil-CoA. Ciclo de Krebs. Regulación. Balance energético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mpartimentación mitocondrial. Translocasas. Lanzaderas del glicerofosfato y del aspartato-malato. Función anfibólica. Reacciones anapleróticas. Vía de las pentosas fosfato. Etapas. Función. Enzimas implicada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. Relación con la glucólisis. Importancia metabó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95800" y="279360"/>
            <a:ext cx="80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reras: LBM, IA y L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250920" y="5529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Reacción 1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citrato sintasa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cataliza la condensación entre acetil-CoA y oxalacetato para rendir citrato, que da nombre al cic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250920" y="2492280"/>
            <a:ext cx="8668800" cy="1971720"/>
            <a:chOff x="250920" y="2492280"/>
            <a:chExt cx="8668800" cy="1971720"/>
          </a:xfrm>
        </p:grpSpPr>
        <p:pic>
          <p:nvPicPr>
            <p:cNvPr id="173" name="Picture 3" descr=""/>
            <p:cNvPicPr/>
            <p:nvPr/>
          </p:nvPicPr>
          <p:blipFill>
            <a:blip r:embed="rId1"/>
            <a:stretch/>
          </p:blipFill>
          <p:spPr>
            <a:xfrm>
              <a:off x="250920" y="2819160"/>
              <a:ext cx="5235480" cy="16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4" descr=""/>
            <p:cNvPicPr/>
            <p:nvPr/>
          </p:nvPicPr>
          <p:blipFill>
            <a:blip r:embed="rId2"/>
            <a:stretch/>
          </p:blipFill>
          <p:spPr>
            <a:xfrm>
              <a:off x="5362920" y="2492280"/>
              <a:ext cx="3556800" cy="19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Oval 5"/>
          <p:cNvSpPr/>
          <p:nvPr/>
        </p:nvSpPr>
        <p:spPr>
          <a:xfrm>
            <a:off x="2340000" y="2852640"/>
            <a:ext cx="360360" cy="432000"/>
          </a:xfrm>
          <a:prstGeom prst="ellipse">
            <a:avLst/>
          </a:prstGeom>
          <a:noFill/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 flipH="1" rot="21360000">
            <a:off x="839520" y="2420640"/>
            <a:ext cx="1660320" cy="987480"/>
          </a:xfrm>
          <a:custGeom>
            <a:avLst/>
            <a:gdLst>
              <a:gd name="textAreaLeft" fmla="*/ 360 w 1660320"/>
              <a:gd name="textAreaRight" fmla="*/ 1657440 w 1660320"/>
              <a:gd name="textAreaTop" fmla="*/ 0 h 987480"/>
              <a:gd name="textAreaBottom" fmla="*/ 502920 h 987480"/>
            </a:gdLst>
            <a:ahLst/>
            <a:rect l="textAreaLeft" t="textAreaTop" r="textAreaRight" b="textAreaBottom"/>
            <a:pathLst>
              <a:path stroke="0" w="21600" h="21600">
                <a:moveTo>
                  <a:pt x="0" y="10815"/>
                </a:moveTo>
                <a:cubicBezTo>
                  <a:pt x="0" y="10810"/>
                  <a:pt x="0" y="1080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347" y="-1"/>
                  <a:pt x="20992" y="4203"/>
                  <a:pt x="21546" y="9722"/>
                </a:cubicBezTo>
                <a:lnTo>
                  <a:pt x="10800" y="10800"/>
                </a:lnTo>
                <a:lnTo>
                  <a:pt x="0" y="10815"/>
                </a:lnTo>
                <a:close/>
              </a:path>
              <a:path fill="none" w="21600" h="21600">
                <a:moveTo>
                  <a:pt x="0" y="10815"/>
                </a:moveTo>
                <a:cubicBezTo>
                  <a:pt x="0" y="10810"/>
                  <a:pt x="0" y="1080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347" y="-1"/>
                  <a:pt x="20992" y="4203"/>
                  <a:pt x="21546" y="9722"/>
                </a:cubicBezTo>
              </a:path>
            </a:pathLst>
          </a:custGeom>
          <a:noFill/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5940360" y="2637000"/>
            <a:ext cx="360360" cy="863280"/>
          </a:xfrm>
          <a:prstGeom prst="ellipse">
            <a:avLst/>
          </a:prstGeom>
          <a:noFill/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8"/>
          <p:cNvSpPr/>
          <p:nvPr/>
        </p:nvSpPr>
        <p:spPr>
          <a:xfrm>
            <a:off x="4211640" y="3573360"/>
            <a:ext cx="503280" cy="43200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5364000" y="3141720"/>
            <a:ext cx="287640" cy="28728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"/>
          <p:cNvSpPr/>
          <p:nvPr/>
        </p:nvSpPr>
        <p:spPr>
          <a:xfrm>
            <a:off x="7020000" y="2637000"/>
            <a:ext cx="287280" cy="28728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8532720" y="3068640"/>
            <a:ext cx="28728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5580000" y="1844640"/>
            <a:ext cx="1800360" cy="201600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1"/>
          <p:cNvGrpSpPr/>
          <p:nvPr/>
        </p:nvGrpSpPr>
        <p:grpSpPr>
          <a:xfrm>
            <a:off x="1474920" y="2187720"/>
            <a:ext cx="6048360" cy="3976560"/>
            <a:chOff x="1474920" y="2187720"/>
            <a:chExt cx="6048360" cy="3976560"/>
          </a:xfrm>
        </p:grpSpPr>
        <p:pic>
          <p:nvPicPr>
            <p:cNvPr id="191" name="Picture 2" descr=""/>
            <p:cNvPicPr/>
            <p:nvPr/>
          </p:nvPicPr>
          <p:blipFill>
            <a:blip r:embed="rId1"/>
            <a:stretch/>
          </p:blipFill>
          <p:spPr>
            <a:xfrm>
              <a:off x="1474920" y="2187720"/>
              <a:ext cx="604836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3"/>
            <p:cNvSpPr/>
            <p:nvPr/>
          </p:nvSpPr>
          <p:spPr>
            <a:xfrm>
              <a:off x="3996360" y="2491920"/>
              <a:ext cx="12718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Aconi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4"/>
            <p:cNvSpPr/>
            <p:nvPr/>
          </p:nvSpPr>
          <p:spPr>
            <a:xfrm>
              <a:off x="3564360" y="4429800"/>
              <a:ext cx="12718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Aconi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Rectangle 5"/>
          <p:cNvSpPr/>
          <p:nvPr/>
        </p:nvSpPr>
        <p:spPr>
          <a:xfrm>
            <a:off x="195120" y="332280"/>
            <a:ext cx="876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2.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Las dos etapas siguientes conllevan la transformación del citrato en un isómero más fácilmente oxidable. Para ello,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aconitasa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convierte el citrato en isocitr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mediante una deshidratación, produciéndose cis-aconitato unido al enzima, seguida de una hidrat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1547640" y="2708280"/>
            <a:ext cx="503280" cy="50472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2556000" y="3355920"/>
            <a:ext cx="14436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4572000" y="3284640"/>
            <a:ext cx="576360" cy="43344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5724360" y="2781360"/>
            <a:ext cx="432000" cy="79380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708360" y="5154480"/>
            <a:ext cx="576360" cy="43524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5148360" y="5229360"/>
            <a:ext cx="50328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Oval 12"/>
          <p:cNvSpPr/>
          <p:nvPr/>
        </p:nvSpPr>
        <p:spPr>
          <a:xfrm>
            <a:off x="6012000" y="4797360"/>
            <a:ext cx="28872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20"/>
          <p:cNvSpPr/>
          <p:nvPr/>
        </p:nvSpPr>
        <p:spPr>
          <a:xfrm>
            <a:off x="5580000" y="3500280"/>
            <a:ext cx="2087640" cy="1729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"/>
          <p:cNvGrpSpPr/>
          <p:nvPr/>
        </p:nvGrpSpPr>
        <p:grpSpPr>
          <a:xfrm>
            <a:off x="1258920" y="2421000"/>
            <a:ext cx="6262560" cy="2060640"/>
            <a:chOff x="1258920" y="2421000"/>
            <a:chExt cx="6262560" cy="2060640"/>
          </a:xfrm>
        </p:grpSpPr>
        <p:pic>
          <p:nvPicPr>
            <p:cNvPr id="211" name="Picture 2" descr=""/>
            <p:cNvPicPr/>
            <p:nvPr/>
          </p:nvPicPr>
          <p:blipFill>
            <a:blip r:embed="rId1"/>
            <a:stretch/>
          </p:blipFill>
          <p:spPr>
            <a:xfrm>
              <a:off x="1258920" y="2421000"/>
              <a:ext cx="626256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3"/>
            <p:cNvSpPr/>
            <p:nvPr/>
          </p:nvSpPr>
          <p:spPr>
            <a:xfrm>
              <a:off x="3807360" y="263664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4"/>
          <p:cNvGrpSpPr/>
          <p:nvPr/>
        </p:nvGrpSpPr>
        <p:grpSpPr>
          <a:xfrm>
            <a:off x="1332000" y="4729320"/>
            <a:ext cx="6191280" cy="1874520"/>
            <a:chOff x="1332000" y="4729320"/>
            <a:chExt cx="6191280" cy="1874520"/>
          </a:xfrm>
        </p:grpSpPr>
        <p:pic>
          <p:nvPicPr>
            <p:cNvPr id="214" name="Picture 5" descr=""/>
            <p:cNvPicPr/>
            <p:nvPr/>
          </p:nvPicPr>
          <p:blipFill>
            <a:blip r:embed="rId2"/>
            <a:stretch/>
          </p:blipFill>
          <p:spPr>
            <a:xfrm>
              <a:off x="1332000" y="4729320"/>
              <a:ext cx="6191280" cy="18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6"/>
            <p:cNvSpPr/>
            <p:nvPr/>
          </p:nvSpPr>
          <p:spPr>
            <a:xfrm>
              <a:off x="3233160" y="481140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7"/>
          <p:cNvSpPr/>
          <p:nvPr/>
        </p:nvSpPr>
        <p:spPr>
          <a:xfrm>
            <a:off x="179280" y="403560"/>
            <a:ext cx="871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3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isocitrato deshidrogenasa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 oxida el isocitrato a oxalosuccin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con la reducción acoplada de NAD+ a NADH. Posteriormente, el oxalosuccinato es descarboxilado, rindiendo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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-cetoglutar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 Esta es la primera etapa en la que la oxidación se acopla a la producción de NADH, y también la primera en la que se genera dióxido de carbo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1330200" y="3500280"/>
            <a:ext cx="28764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2195640" y="3502080"/>
            <a:ext cx="287280" cy="3585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4930920" y="3573360"/>
            <a:ext cx="720720" cy="28728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5722920" y="3500280"/>
            <a:ext cx="50472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12"/>
          <p:cNvGrpSpPr/>
          <p:nvPr/>
        </p:nvGrpSpPr>
        <p:grpSpPr>
          <a:xfrm>
            <a:off x="7646760" y="3351240"/>
            <a:ext cx="666720" cy="437400"/>
            <a:chOff x="7646760" y="3351240"/>
            <a:chExt cx="666720" cy="437400"/>
          </a:xfrm>
        </p:grpSpPr>
        <p:sp>
          <p:nvSpPr>
            <p:cNvPr id="222" name="Text Box 13"/>
            <p:cNvSpPr/>
            <p:nvPr/>
          </p:nvSpPr>
          <p:spPr>
            <a:xfrm>
              <a:off x="7646760" y="3513960"/>
              <a:ext cx="47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=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4"/>
            <p:cNvSpPr/>
            <p:nvPr/>
          </p:nvSpPr>
          <p:spPr>
            <a:xfrm>
              <a:off x="8025480" y="3351240"/>
              <a:ext cx="1080" cy="17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5"/>
            <p:cNvSpPr/>
            <p:nvPr/>
          </p:nvSpPr>
          <p:spPr>
            <a:xfrm>
              <a:off x="8134920" y="3638880"/>
              <a:ext cx="178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Oval 16"/>
          <p:cNvSpPr/>
          <p:nvPr/>
        </p:nvSpPr>
        <p:spPr>
          <a:xfrm>
            <a:off x="7524720" y="3500280"/>
            <a:ext cx="64764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17"/>
          <p:cNvSpPr/>
          <p:nvPr/>
        </p:nvSpPr>
        <p:spPr>
          <a:xfrm>
            <a:off x="3132000" y="5589720"/>
            <a:ext cx="287640" cy="36036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18"/>
          <p:cNvSpPr/>
          <p:nvPr/>
        </p:nvSpPr>
        <p:spPr>
          <a:xfrm>
            <a:off x="5292720" y="5300640"/>
            <a:ext cx="358920" cy="36036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19"/>
          <p:cNvSpPr/>
          <p:nvPr/>
        </p:nvSpPr>
        <p:spPr>
          <a:xfrm>
            <a:off x="6804000" y="5229360"/>
            <a:ext cx="72072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"/>
          <p:cNvGrpSpPr/>
          <p:nvPr/>
        </p:nvGrpSpPr>
        <p:grpSpPr>
          <a:xfrm>
            <a:off x="1258920" y="2421000"/>
            <a:ext cx="6840000" cy="2060640"/>
            <a:chOff x="1258920" y="2421000"/>
            <a:chExt cx="6840000" cy="2060640"/>
          </a:xfrm>
        </p:grpSpPr>
        <p:pic>
          <p:nvPicPr>
            <p:cNvPr id="230" name="Picture 2" descr=""/>
            <p:cNvPicPr/>
            <p:nvPr/>
          </p:nvPicPr>
          <p:blipFill>
            <a:blip r:embed="rId1"/>
            <a:srcRect l="59303" t="0" r="0" b="0"/>
            <a:stretch/>
          </p:blipFill>
          <p:spPr>
            <a:xfrm>
              <a:off x="5578560" y="2421000"/>
              <a:ext cx="2520360" cy="20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" descr=""/>
            <p:cNvPicPr/>
            <p:nvPr/>
          </p:nvPicPr>
          <p:blipFill>
            <a:blip r:embed="rId2"/>
            <a:srcRect l="0" t="0" r="29884" b="0"/>
            <a:stretch/>
          </p:blipFill>
          <p:spPr>
            <a:xfrm>
              <a:off x="1258920" y="2421000"/>
              <a:ext cx="4391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3807720" y="263664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Group 5"/>
          <p:cNvGrpSpPr/>
          <p:nvPr/>
        </p:nvGrpSpPr>
        <p:grpSpPr>
          <a:xfrm>
            <a:off x="4427640" y="3500280"/>
            <a:ext cx="1385640" cy="2210040"/>
            <a:chOff x="4427640" y="3500280"/>
            <a:chExt cx="1385640" cy="2210040"/>
          </a:xfrm>
        </p:grpSpPr>
        <p:sp>
          <p:nvSpPr>
            <p:cNvPr id="234" name="Rectangle 6"/>
            <p:cNvSpPr/>
            <p:nvPr/>
          </p:nvSpPr>
          <p:spPr>
            <a:xfrm>
              <a:off x="4447800" y="3500280"/>
              <a:ext cx="1274400" cy="4316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7"/>
            <p:cNvSpPr/>
            <p:nvPr/>
          </p:nvSpPr>
          <p:spPr>
            <a:xfrm>
              <a:off x="4950720" y="3931920"/>
              <a:ext cx="1080" cy="9342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4427640" y="4887000"/>
              <a:ext cx="13856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5815080" y="5059440"/>
            <a:ext cx="1980000" cy="459720"/>
            <a:chOff x="5815080" y="5059440"/>
            <a:chExt cx="1980000" cy="459720"/>
          </a:xfrm>
        </p:grpSpPr>
        <p:sp>
          <p:nvSpPr>
            <p:cNvPr id="238" name="Line 10"/>
            <p:cNvSpPr/>
            <p:nvPr/>
          </p:nvSpPr>
          <p:spPr>
            <a:xfrm>
              <a:off x="5815080" y="5299560"/>
              <a:ext cx="93600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6751800" y="505944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4284720" y="4941720"/>
            <a:ext cx="2519280" cy="1729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1"/>
          <p:cNvGrpSpPr/>
          <p:nvPr/>
        </p:nvGrpSpPr>
        <p:grpSpPr>
          <a:xfrm>
            <a:off x="611280" y="2368440"/>
            <a:ext cx="7846920" cy="2787840"/>
            <a:chOff x="611280" y="2368440"/>
            <a:chExt cx="7846920" cy="2787840"/>
          </a:xfrm>
        </p:grpSpPr>
        <p:pic>
          <p:nvPicPr>
            <p:cNvPr id="249" name="Picture 2" descr=""/>
            <p:cNvPicPr/>
            <p:nvPr/>
          </p:nvPicPr>
          <p:blipFill>
            <a:blip r:embed="rId1"/>
            <a:stretch/>
          </p:blipFill>
          <p:spPr>
            <a:xfrm>
              <a:off x="611280" y="2368440"/>
              <a:ext cx="7846920" cy="27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3"/>
            <p:cNvSpPr/>
            <p:nvPr/>
          </p:nvSpPr>
          <p:spPr>
            <a:xfrm>
              <a:off x="3133080" y="2781000"/>
              <a:ext cx="1933200" cy="642600"/>
            </a:xfrm>
            <a:prstGeom prst="rect">
              <a:avLst/>
            </a:prstGeom>
            <a:solidFill>
              <a:srgbClr val="ffd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l-GR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α</a:t>
              </a:r>
              <a:r>
                <a:rPr b="1" i="1" lang="es-ES" sz="1800" spc="-1" strike="noStrike">
                  <a:solidFill>
                    <a:srgbClr val="0000ff"/>
                  </a:solidFill>
                  <a:latin typeface="Arial"/>
                </a:rPr>
                <a:t>-cetogluta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Rectangle 4"/>
          <p:cNvSpPr/>
          <p:nvPr/>
        </p:nvSpPr>
        <p:spPr>
          <a:xfrm>
            <a:off x="217440" y="47448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4.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El complejo enzimático </a:t>
            </a:r>
            <a:r>
              <a:rPr b="1" i="1" lang="es-E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-cetoglutarato deshidrogenasa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descarboxila oxidativamente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el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-cetoglutarato a succinil-Co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Oval 5"/>
          <p:cNvSpPr/>
          <p:nvPr/>
        </p:nvSpPr>
        <p:spPr>
          <a:xfrm>
            <a:off x="1476360" y="3645000"/>
            <a:ext cx="1152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6"/>
          <p:cNvSpPr/>
          <p:nvPr/>
        </p:nvSpPr>
        <p:spPr>
          <a:xfrm>
            <a:off x="5291280" y="2781360"/>
            <a:ext cx="7207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7020000" y="3716280"/>
            <a:ext cx="1224000" cy="432000"/>
          </a:xfrm>
          <a:prstGeom prst="rect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8"/>
          <p:cNvGrpSpPr/>
          <p:nvPr/>
        </p:nvGrpSpPr>
        <p:grpSpPr>
          <a:xfrm>
            <a:off x="3205080" y="4653000"/>
            <a:ext cx="1077840" cy="430200"/>
            <a:chOff x="3205080" y="4653000"/>
            <a:chExt cx="1077840" cy="430200"/>
          </a:xfrm>
        </p:grpSpPr>
        <p:sp>
          <p:nvSpPr>
            <p:cNvPr id="256" name="Rectangle 9"/>
            <p:cNvSpPr/>
            <p:nvPr/>
          </p:nvSpPr>
          <p:spPr>
            <a:xfrm>
              <a:off x="3205080" y="4653000"/>
              <a:ext cx="1077840" cy="430200"/>
            </a:xfrm>
            <a:prstGeom prst="rect">
              <a:avLst/>
            </a:prstGeom>
            <a:noFill/>
            <a:ln w="442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Text Box 10"/>
            <p:cNvSpPr/>
            <p:nvPr/>
          </p:nvSpPr>
          <p:spPr>
            <a:xfrm>
              <a:off x="3347640" y="4744800"/>
              <a:ext cx="93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A-S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4788000" y="3860640"/>
            <a:ext cx="1385640" cy="2210040"/>
            <a:chOff x="4788000" y="3860640"/>
            <a:chExt cx="1385640" cy="2210040"/>
          </a:xfrm>
        </p:grpSpPr>
        <p:sp>
          <p:nvSpPr>
            <p:cNvPr id="259" name="Rectangle 12"/>
            <p:cNvSpPr/>
            <p:nvPr/>
          </p:nvSpPr>
          <p:spPr>
            <a:xfrm>
              <a:off x="4808160" y="3860640"/>
              <a:ext cx="1274400" cy="4316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3"/>
            <p:cNvSpPr/>
            <p:nvPr/>
          </p:nvSpPr>
          <p:spPr>
            <a:xfrm>
              <a:off x="5311080" y="4292280"/>
              <a:ext cx="1080" cy="9342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 Box 14"/>
            <p:cNvSpPr/>
            <p:nvPr/>
          </p:nvSpPr>
          <p:spPr>
            <a:xfrm>
              <a:off x="4788000" y="5247360"/>
              <a:ext cx="13856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Group 15"/>
          <p:cNvGrpSpPr/>
          <p:nvPr/>
        </p:nvGrpSpPr>
        <p:grpSpPr>
          <a:xfrm>
            <a:off x="6175440" y="5419800"/>
            <a:ext cx="1980000" cy="459720"/>
            <a:chOff x="6175440" y="5419800"/>
            <a:chExt cx="1980000" cy="459720"/>
          </a:xfrm>
        </p:grpSpPr>
        <p:sp>
          <p:nvSpPr>
            <p:cNvPr id="263" name="Line 16"/>
            <p:cNvSpPr/>
            <p:nvPr/>
          </p:nvSpPr>
          <p:spPr>
            <a:xfrm>
              <a:off x="6175440" y="5659920"/>
              <a:ext cx="93600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17"/>
            <p:cNvSpPr/>
            <p:nvPr/>
          </p:nvSpPr>
          <p:spPr>
            <a:xfrm>
              <a:off x="7112160" y="5419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2268360" y="5013360"/>
            <a:ext cx="2590920" cy="158436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79280" y="171000"/>
            <a:ext cx="856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5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uccinil-CoA sinteta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uccinato tioquin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vierte el succinil-CoA en succinato. La energía libre de la reacción se conserva aquí por la formación de GTP, a partir de GDP y P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1181160" y="5948640"/>
            <a:ext cx="247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uanosina trifosfato (GTP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uanosina difosfato (GD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1108080" y="1844640"/>
            <a:ext cx="7424640" cy="245736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4"/>
          <p:cNvGrpSpPr/>
          <p:nvPr/>
        </p:nvGrpSpPr>
        <p:grpSpPr>
          <a:xfrm>
            <a:off x="1764720" y="4791240"/>
            <a:ext cx="5541480" cy="727200"/>
            <a:chOff x="1764720" y="4791240"/>
            <a:chExt cx="5541480" cy="727200"/>
          </a:xfrm>
        </p:grpSpPr>
        <p:sp>
          <p:nvSpPr>
            <p:cNvPr id="277" name="Text Box 5"/>
            <p:cNvSpPr/>
            <p:nvPr/>
          </p:nvSpPr>
          <p:spPr>
            <a:xfrm>
              <a:off x="1764720" y="5058720"/>
              <a:ext cx="17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TP + AD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6"/>
            <p:cNvSpPr/>
            <p:nvPr/>
          </p:nvSpPr>
          <p:spPr>
            <a:xfrm>
              <a:off x="5508720" y="5052240"/>
              <a:ext cx="17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DP +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AutoShape 7"/>
            <p:cNvSpPr/>
            <p:nvPr/>
          </p:nvSpPr>
          <p:spPr>
            <a:xfrm>
              <a:off x="3563280" y="5131440"/>
              <a:ext cx="1944000" cy="288000"/>
            </a:xfrm>
            <a:prstGeom prst="leftRightArrow">
              <a:avLst>
                <a:gd name="adj1" fmla="val 40657"/>
                <a:gd name="adj2" fmla="val 9312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8"/>
            <p:cNvSpPr/>
            <p:nvPr/>
          </p:nvSpPr>
          <p:spPr>
            <a:xfrm>
              <a:off x="3416760" y="4791240"/>
              <a:ext cx="23277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Nucleósido difosfato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quin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Oval 9"/>
          <p:cNvSpPr/>
          <p:nvPr/>
        </p:nvSpPr>
        <p:spPr>
          <a:xfrm>
            <a:off x="1619280" y="2995560"/>
            <a:ext cx="431640" cy="5047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3851280" y="2563920"/>
            <a:ext cx="431640" cy="5047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11"/>
          <p:cNvSpPr/>
          <p:nvPr/>
        </p:nvSpPr>
        <p:spPr>
          <a:xfrm>
            <a:off x="4284720" y="2995560"/>
            <a:ext cx="863640" cy="3603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1979640" y="2995560"/>
            <a:ext cx="1152360" cy="50472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7093080" y="2419200"/>
            <a:ext cx="1224000" cy="50508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4"/>
          <p:cNvSpPr/>
          <p:nvPr/>
        </p:nvSpPr>
        <p:spPr>
          <a:xfrm flipH="1">
            <a:off x="2338200" y="3355920"/>
            <a:ext cx="2306520" cy="165564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2"/>
          <p:cNvGrpSpPr/>
          <p:nvPr/>
        </p:nvGrpSpPr>
        <p:grpSpPr>
          <a:xfrm>
            <a:off x="3147480" y="1052640"/>
            <a:ext cx="1612440" cy="1374840"/>
            <a:chOff x="3147480" y="1052640"/>
            <a:chExt cx="1612440" cy="1374840"/>
          </a:xfrm>
        </p:grpSpPr>
        <p:sp>
          <p:nvSpPr>
            <p:cNvPr id="53" name="Text Box 3"/>
            <p:cNvSpPr/>
            <p:nvPr/>
          </p:nvSpPr>
          <p:spPr>
            <a:xfrm>
              <a:off x="3245760" y="105264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4"/>
            <p:cNvSpPr/>
            <p:nvPr/>
          </p:nvSpPr>
          <p:spPr>
            <a:xfrm>
              <a:off x="3921840" y="1340640"/>
              <a:ext cx="1440" cy="7182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Text Box 5"/>
            <p:cNvSpPr/>
            <p:nvPr/>
          </p:nvSpPr>
          <p:spPr>
            <a:xfrm>
              <a:off x="3147480" y="20592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Text Box 6"/>
            <p:cNvSpPr/>
            <p:nvPr/>
          </p:nvSpPr>
          <p:spPr>
            <a:xfrm>
              <a:off x="3923280" y="15566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7"/>
          <p:cNvGrpSpPr/>
          <p:nvPr/>
        </p:nvGrpSpPr>
        <p:grpSpPr>
          <a:xfrm>
            <a:off x="5435640" y="2540160"/>
            <a:ext cx="1651320" cy="673560"/>
            <a:chOff x="5435640" y="2540160"/>
            <a:chExt cx="1651320" cy="673560"/>
          </a:xfrm>
        </p:grpSpPr>
        <p:sp>
          <p:nvSpPr>
            <p:cNvPr id="58" name="Text Box 8"/>
            <p:cNvSpPr/>
            <p:nvPr/>
          </p:nvSpPr>
          <p:spPr>
            <a:xfrm>
              <a:off x="5842440" y="284544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Text Box 9"/>
            <p:cNvSpPr/>
            <p:nvPr/>
          </p:nvSpPr>
          <p:spPr>
            <a:xfrm>
              <a:off x="5435640" y="254016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Group 10"/>
          <p:cNvGrpSpPr/>
          <p:nvPr/>
        </p:nvGrpSpPr>
        <p:grpSpPr>
          <a:xfrm>
            <a:off x="2292840" y="2511360"/>
            <a:ext cx="1497600" cy="773640"/>
            <a:chOff x="2292840" y="2511360"/>
            <a:chExt cx="1497600" cy="773640"/>
          </a:xfrm>
        </p:grpSpPr>
        <p:sp>
          <p:nvSpPr>
            <p:cNvPr id="61" name="Text Box 11"/>
            <p:cNvSpPr/>
            <p:nvPr/>
          </p:nvSpPr>
          <p:spPr>
            <a:xfrm>
              <a:off x="2292840" y="291672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Group 12"/>
            <p:cNvGrpSpPr/>
            <p:nvPr/>
          </p:nvGrpSpPr>
          <p:grpSpPr>
            <a:xfrm>
              <a:off x="2920680" y="2511360"/>
              <a:ext cx="517320" cy="554400"/>
              <a:chOff x="2920680" y="2511360"/>
              <a:chExt cx="517320" cy="554400"/>
            </a:xfrm>
          </p:grpSpPr>
          <p:sp>
            <p:nvSpPr>
              <p:cNvPr id="63" name="Text Box 13"/>
              <p:cNvSpPr/>
              <p:nvPr/>
            </p:nvSpPr>
            <p:spPr>
              <a:xfrm>
                <a:off x="292068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" name="Group 14"/>
              <p:cNvGrpSpPr/>
              <p:nvPr/>
            </p:nvGrpSpPr>
            <p:grpSpPr>
              <a:xfrm>
                <a:off x="2944800" y="2572920"/>
                <a:ext cx="404280" cy="492840"/>
                <a:chOff x="2944800" y="2572920"/>
                <a:chExt cx="404280" cy="492840"/>
              </a:xfrm>
            </p:grpSpPr>
            <p:sp>
              <p:nvSpPr>
                <p:cNvPr id="65" name="Line 15"/>
                <p:cNvSpPr/>
                <p:nvPr/>
              </p:nvSpPr>
              <p:spPr>
                <a:xfrm>
                  <a:off x="2945160" y="2572920"/>
                  <a:ext cx="402840" cy="4928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Line 16"/>
                <p:cNvSpPr/>
                <p:nvPr/>
              </p:nvSpPr>
              <p:spPr>
                <a:xfrm flipH="1">
                  <a:off x="2944800" y="2572920"/>
                  <a:ext cx="404280" cy="4294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7" name="Text Box 17"/>
          <p:cNvSpPr/>
          <p:nvPr/>
        </p:nvSpPr>
        <p:spPr>
          <a:xfrm>
            <a:off x="298620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1317600" y="3933720"/>
            <a:ext cx="152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lactobacil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3074760" y="2492280"/>
            <a:ext cx="1939320" cy="1341000"/>
            <a:chOff x="3074760" y="2492280"/>
            <a:chExt cx="1939320" cy="1341000"/>
          </a:xfrm>
        </p:grpSpPr>
        <p:sp>
          <p:nvSpPr>
            <p:cNvPr id="70" name="Line 20"/>
            <p:cNvSpPr/>
            <p:nvPr/>
          </p:nvSpPr>
          <p:spPr>
            <a:xfrm>
              <a:off x="3921840" y="2492280"/>
              <a:ext cx="1440" cy="935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Text Box 21"/>
            <p:cNvSpPr/>
            <p:nvPr/>
          </p:nvSpPr>
          <p:spPr>
            <a:xfrm>
              <a:off x="3074760" y="342756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n-US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Group 22"/>
          <p:cNvGrpSpPr/>
          <p:nvPr/>
        </p:nvGrpSpPr>
        <p:grpSpPr>
          <a:xfrm>
            <a:off x="1528200" y="2421000"/>
            <a:ext cx="1600560" cy="1375200"/>
            <a:chOff x="1528200" y="2421000"/>
            <a:chExt cx="1600560" cy="1375200"/>
          </a:xfrm>
        </p:grpSpPr>
        <p:sp>
          <p:nvSpPr>
            <p:cNvPr id="73" name="Line 23"/>
            <p:cNvSpPr/>
            <p:nvPr/>
          </p:nvSpPr>
          <p:spPr>
            <a:xfrm flipH="1">
              <a:off x="1975320" y="2421000"/>
              <a:ext cx="1153440" cy="935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4"/>
            <p:cNvSpPr/>
            <p:nvPr/>
          </p:nvSpPr>
          <p:spPr>
            <a:xfrm>
              <a:off x="1528200" y="342792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Group 25"/>
          <p:cNvGrpSpPr/>
          <p:nvPr/>
        </p:nvGrpSpPr>
        <p:grpSpPr>
          <a:xfrm>
            <a:off x="4643280" y="2421000"/>
            <a:ext cx="3150000" cy="2669760"/>
            <a:chOff x="4643280" y="2421000"/>
            <a:chExt cx="3150000" cy="2669760"/>
          </a:xfrm>
        </p:grpSpPr>
        <p:sp>
          <p:nvSpPr>
            <p:cNvPr id="76" name="Line 26"/>
            <p:cNvSpPr/>
            <p:nvPr/>
          </p:nvSpPr>
          <p:spPr>
            <a:xfrm>
              <a:off x="4643280" y="2421000"/>
              <a:ext cx="1656360" cy="93600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Text Box 27"/>
            <p:cNvSpPr/>
            <p:nvPr/>
          </p:nvSpPr>
          <p:spPr>
            <a:xfrm>
              <a:off x="5385960" y="342828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Text Box 28"/>
            <p:cNvSpPr/>
            <p:nvPr/>
          </p:nvSpPr>
          <p:spPr>
            <a:xfrm>
              <a:off x="5605920" y="468504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n-U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n-U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" name="Group 29"/>
            <p:cNvGrpSpPr/>
            <p:nvPr/>
          </p:nvGrpSpPr>
          <p:grpSpPr>
            <a:xfrm>
              <a:off x="6371280" y="3932640"/>
              <a:ext cx="645480" cy="716760"/>
              <a:chOff x="6371280" y="3932640"/>
              <a:chExt cx="645480" cy="716760"/>
            </a:xfrm>
          </p:grpSpPr>
          <p:sp>
            <p:nvSpPr>
              <p:cNvPr id="80" name="Line 30"/>
              <p:cNvSpPr/>
              <p:nvPr/>
            </p:nvSpPr>
            <p:spPr>
              <a:xfrm>
                <a:off x="6371280" y="3932640"/>
                <a:ext cx="1080" cy="71676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Text Box 31"/>
              <p:cNvSpPr/>
              <p:nvPr/>
            </p:nvSpPr>
            <p:spPr>
              <a:xfrm>
                <a:off x="6442920" y="40748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32"/>
              <p:cNvSpPr/>
              <p:nvPr/>
            </p:nvSpPr>
            <p:spPr>
              <a:xfrm>
                <a:off x="6371280" y="3932640"/>
                <a:ext cx="645480" cy="645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" name="Text Box 33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4"/>
          <p:cNvSpPr/>
          <p:nvPr/>
        </p:nvSpPr>
        <p:spPr>
          <a:xfrm>
            <a:off x="533520" y="368280"/>
            <a:ext cx="81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¿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á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l es el destino del Piruvato según las condiciones celula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35"/>
          <p:cNvSpPr/>
          <p:nvPr/>
        </p:nvSpPr>
        <p:spPr>
          <a:xfrm>
            <a:off x="450072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36"/>
          <p:cNvSpPr/>
          <p:nvPr/>
        </p:nvSpPr>
        <p:spPr>
          <a:xfrm rot="20160000">
            <a:off x="4995720" y="691920"/>
            <a:ext cx="2157480" cy="55432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20"/>
          <p:cNvSpPr/>
          <p:nvPr/>
        </p:nvSpPr>
        <p:spPr>
          <a:xfrm>
            <a:off x="1763640" y="3716280"/>
            <a:ext cx="1800360" cy="1513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"/>
          <p:cNvSpPr/>
          <p:nvPr/>
        </p:nvSpPr>
        <p:spPr>
          <a:xfrm>
            <a:off x="217440" y="25884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6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s reacciones restantes suponen la preparación de otra vuelta del cicl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y para ello completan la oxidación de succinato a oxalacetato.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uccinato deshidrogena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cataliza la oxidación del enlace sencillo situado en el centro de la molécula de succinato a un doble enlace trans, dando lugar a fumarato con la reducción simultánea de FAD a FADH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Group 2"/>
          <p:cNvGrpSpPr/>
          <p:nvPr/>
        </p:nvGrpSpPr>
        <p:grpSpPr>
          <a:xfrm>
            <a:off x="826920" y="2719440"/>
            <a:ext cx="7560000" cy="2435040"/>
            <a:chOff x="826920" y="2719440"/>
            <a:chExt cx="7560000" cy="2435040"/>
          </a:xfrm>
        </p:grpSpPr>
        <p:pic>
          <p:nvPicPr>
            <p:cNvPr id="297" name="Picture 3" descr=""/>
            <p:cNvPicPr/>
            <p:nvPr/>
          </p:nvPicPr>
          <p:blipFill>
            <a:blip r:embed="rId1"/>
            <a:stretch/>
          </p:blipFill>
          <p:spPr>
            <a:xfrm>
              <a:off x="826920" y="2719440"/>
              <a:ext cx="7560000" cy="24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4"/>
            <p:cNvSpPr/>
            <p:nvPr/>
          </p:nvSpPr>
          <p:spPr>
            <a:xfrm>
              <a:off x="3060000" y="2997000"/>
              <a:ext cx="1933200" cy="642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uccin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Oval 5"/>
          <p:cNvSpPr/>
          <p:nvPr/>
        </p:nvSpPr>
        <p:spPr>
          <a:xfrm>
            <a:off x="1403280" y="3357720"/>
            <a:ext cx="289080" cy="35856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1403280" y="3933720"/>
            <a:ext cx="289080" cy="35892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4859280" y="4149720"/>
            <a:ext cx="504720" cy="50328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6588000" y="3141720"/>
            <a:ext cx="432000" cy="100800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Group 9"/>
          <p:cNvGrpSpPr/>
          <p:nvPr/>
        </p:nvGrpSpPr>
        <p:grpSpPr>
          <a:xfrm>
            <a:off x="4264200" y="4149720"/>
            <a:ext cx="1385640" cy="2209320"/>
            <a:chOff x="4264200" y="4149720"/>
            <a:chExt cx="1385640" cy="2209320"/>
          </a:xfrm>
        </p:grpSpPr>
        <p:sp>
          <p:nvSpPr>
            <p:cNvPr id="304" name="Rectangle 10"/>
            <p:cNvSpPr/>
            <p:nvPr/>
          </p:nvSpPr>
          <p:spPr>
            <a:xfrm>
              <a:off x="4284360" y="4149720"/>
              <a:ext cx="933480" cy="431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1"/>
            <p:cNvSpPr/>
            <p:nvPr/>
          </p:nvSpPr>
          <p:spPr>
            <a:xfrm>
              <a:off x="4787280" y="4581000"/>
              <a:ext cx="1080" cy="9342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12"/>
            <p:cNvSpPr/>
            <p:nvPr/>
          </p:nvSpPr>
          <p:spPr>
            <a:xfrm>
              <a:off x="4264200" y="5535720"/>
              <a:ext cx="13856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Group 13"/>
          <p:cNvGrpSpPr/>
          <p:nvPr/>
        </p:nvGrpSpPr>
        <p:grpSpPr>
          <a:xfrm>
            <a:off x="5651640" y="5708520"/>
            <a:ext cx="1980000" cy="459720"/>
            <a:chOff x="5651640" y="5708520"/>
            <a:chExt cx="1980000" cy="459720"/>
          </a:xfrm>
        </p:grpSpPr>
        <p:sp>
          <p:nvSpPr>
            <p:cNvPr id="308" name="Line 14"/>
            <p:cNvSpPr/>
            <p:nvPr/>
          </p:nvSpPr>
          <p:spPr>
            <a:xfrm>
              <a:off x="5651640" y="5949000"/>
              <a:ext cx="93564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Text Box 15"/>
            <p:cNvSpPr/>
            <p:nvPr/>
          </p:nvSpPr>
          <p:spPr>
            <a:xfrm>
              <a:off x="6588360" y="570852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1979640" y="2637000"/>
            <a:ext cx="1224000" cy="129672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425520" y="403200"/>
            <a:ext cx="84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7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fumar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fumarato hidrat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ataliza después la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hidratación del doble enlace del fumarato para rendir mal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2"/>
          <p:cNvGrpSpPr/>
          <p:nvPr/>
        </p:nvGrpSpPr>
        <p:grpSpPr>
          <a:xfrm>
            <a:off x="865080" y="2133720"/>
            <a:ext cx="7378920" cy="1800000"/>
            <a:chOff x="865080" y="2133720"/>
            <a:chExt cx="7378920" cy="1800000"/>
          </a:xfrm>
        </p:grpSpPr>
        <p:pic>
          <p:nvPicPr>
            <p:cNvPr id="320" name="Picture 3" descr=""/>
            <p:cNvPicPr/>
            <p:nvPr/>
          </p:nvPicPr>
          <p:blipFill>
            <a:blip r:embed="rId1"/>
            <a:srcRect l="0" t="0" r="0" b="7594"/>
            <a:stretch/>
          </p:blipFill>
          <p:spPr>
            <a:xfrm>
              <a:off x="865080" y="2133720"/>
              <a:ext cx="73789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4"/>
            <p:cNvSpPr/>
            <p:nvPr/>
          </p:nvSpPr>
          <p:spPr>
            <a:xfrm>
              <a:off x="3925440" y="2138400"/>
              <a:ext cx="122148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990099"/>
                  </a:solidFill>
                  <a:latin typeface="Arial"/>
                </a:rPr>
                <a:t>Fuma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990099"/>
                  </a:solidFill>
                  <a:latin typeface="Arial"/>
                </a:rPr>
                <a:t>hidra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Oval 5"/>
          <p:cNvSpPr/>
          <p:nvPr/>
        </p:nvSpPr>
        <p:spPr>
          <a:xfrm>
            <a:off x="3851280" y="3141720"/>
            <a:ext cx="72072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6"/>
          <p:cNvSpPr/>
          <p:nvPr/>
        </p:nvSpPr>
        <p:spPr>
          <a:xfrm>
            <a:off x="5292720" y="2205000"/>
            <a:ext cx="57636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7"/>
          <p:cNvSpPr/>
          <p:nvPr/>
        </p:nvSpPr>
        <p:spPr>
          <a:xfrm>
            <a:off x="6443640" y="2997360"/>
            <a:ext cx="360360" cy="36036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2195640" y="2492280"/>
            <a:ext cx="36036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2195640" y="1628640"/>
            <a:ext cx="1728720" cy="129564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1"/>
          <p:cNvGrpSpPr/>
          <p:nvPr/>
        </p:nvGrpSpPr>
        <p:grpSpPr>
          <a:xfrm>
            <a:off x="826920" y="2421000"/>
            <a:ext cx="7415280" cy="2066760"/>
            <a:chOff x="826920" y="2421000"/>
            <a:chExt cx="7415280" cy="2066760"/>
          </a:xfrm>
        </p:grpSpPr>
        <p:grpSp>
          <p:nvGrpSpPr>
            <p:cNvPr id="333" name="Group 2"/>
            <p:cNvGrpSpPr/>
            <p:nvPr/>
          </p:nvGrpSpPr>
          <p:grpSpPr>
            <a:xfrm>
              <a:off x="826920" y="2421000"/>
              <a:ext cx="7415280" cy="2066760"/>
              <a:chOff x="826920" y="2421000"/>
              <a:chExt cx="7415280" cy="2066760"/>
            </a:xfrm>
          </p:grpSpPr>
          <p:pic>
            <p:nvPicPr>
              <p:cNvPr id="334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826920" y="2421000"/>
                <a:ext cx="7415280" cy="206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Text Box 4"/>
              <p:cNvSpPr/>
              <p:nvPr/>
            </p:nvSpPr>
            <p:spPr>
              <a:xfrm>
                <a:off x="3420000" y="2682360"/>
                <a:ext cx="2721240" cy="368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800" spc="-1" strike="noStrike">
                    <a:solidFill>
                      <a:srgbClr val="0000ff"/>
                    </a:solidFill>
                    <a:latin typeface="Arial"/>
                  </a:rPr>
                  <a:t>Malato deshidrogen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6" name="Text Box 5"/>
            <p:cNvSpPr/>
            <p:nvPr/>
          </p:nvSpPr>
          <p:spPr>
            <a:xfrm>
              <a:off x="5436000" y="37242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Rectangle 6"/>
          <p:cNvSpPr/>
          <p:nvPr/>
        </p:nvSpPr>
        <p:spPr>
          <a:xfrm>
            <a:off x="287280" y="258480"/>
            <a:ext cx="85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8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Finalmente, la enzima 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malato deshidrogenasa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regenera el oxalacet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oxidando el grupo alcohol secundario del malato a la correspondiente cetona, con la reducción de una tercera molécula de NAD+ a NAD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7"/>
          <p:cNvGrpSpPr/>
          <p:nvPr/>
        </p:nvGrpSpPr>
        <p:grpSpPr>
          <a:xfrm>
            <a:off x="4800600" y="3645000"/>
            <a:ext cx="1386000" cy="2209680"/>
            <a:chOff x="4800600" y="3645000"/>
            <a:chExt cx="1386000" cy="2209680"/>
          </a:xfrm>
        </p:grpSpPr>
        <p:sp>
          <p:nvSpPr>
            <p:cNvPr id="339" name="Rectangle 8"/>
            <p:cNvSpPr/>
            <p:nvPr/>
          </p:nvSpPr>
          <p:spPr>
            <a:xfrm>
              <a:off x="4820760" y="3645000"/>
              <a:ext cx="1275120" cy="431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9"/>
            <p:cNvSpPr/>
            <p:nvPr/>
          </p:nvSpPr>
          <p:spPr>
            <a:xfrm>
              <a:off x="5323680" y="4076280"/>
              <a:ext cx="1440" cy="9342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10"/>
            <p:cNvSpPr/>
            <p:nvPr/>
          </p:nvSpPr>
          <p:spPr>
            <a:xfrm>
              <a:off x="4800600" y="5031360"/>
              <a:ext cx="138600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11"/>
          <p:cNvGrpSpPr/>
          <p:nvPr/>
        </p:nvGrpSpPr>
        <p:grpSpPr>
          <a:xfrm>
            <a:off x="6188040" y="5203800"/>
            <a:ext cx="1980000" cy="459720"/>
            <a:chOff x="6188040" y="5203800"/>
            <a:chExt cx="1980000" cy="459720"/>
          </a:xfrm>
        </p:grpSpPr>
        <p:sp>
          <p:nvSpPr>
            <p:cNvPr id="343" name="Line 12"/>
            <p:cNvSpPr/>
            <p:nvPr/>
          </p:nvSpPr>
          <p:spPr>
            <a:xfrm>
              <a:off x="6188040" y="5443920"/>
              <a:ext cx="936000" cy="14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7124760" y="5203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Oval 14"/>
          <p:cNvSpPr/>
          <p:nvPr/>
        </p:nvSpPr>
        <p:spPr>
          <a:xfrm>
            <a:off x="900000" y="2587680"/>
            <a:ext cx="358920" cy="50472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1908000" y="2587680"/>
            <a:ext cx="360360" cy="50472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16"/>
          <p:cNvSpPr/>
          <p:nvPr/>
        </p:nvSpPr>
        <p:spPr>
          <a:xfrm>
            <a:off x="5364000" y="3597120"/>
            <a:ext cx="792360" cy="50508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156360" y="2660760"/>
            <a:ext cx="720720" cy="43164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Group 18"/>
          <p:cNvGrpSpPr/>
          <p:nvPr/>
        </p:nvGrpSpPr>
        <p:grpSpPr>
          <a:xfrm>
            <a:off x="5940360" y="1700280"/>
            <a:ext cx="738000" cy="501120"/>
            <a:chOff x="5940360" y="1700280"/>
            <a:chExt cx="738000" cy="501120"/>
          </a:xfrm>
        </p:grpSpPr>
        <p:grpSp>
          <p:nvGrpSpPr>
            <p:cNvPr id="350" name="Group 19"/>
            <p:cNvGrpSpPr/>
            <p:nvPr/>
          </p:nvGrpSpPr>
          <p:grpSpPr>
            <a:xfrm>
              <a:off x="6011640" y="1755720"/>
              <a:ext cx="666720" cy="445680"/>
              <a:chOff x="6011640" y="1755720"/>
              <a:chExt cx="666720" cy="445680"/>
            </a:xfrm>
          </p:grpSpPr>
          <p:sp>
            <p:nvSpPr>
              <p:cNvPr id="351" name="Text Box 20"/>
              <p:cNvSpPr/>
              <p:nvPr/>
            </p:nvSpPr>
            <p:spPr>
              <a:xfrm>
                <a:off x="6011640" y="1755720"/>
                <a:ext cx="477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=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21"/>
              <p:cNvSpPr/>
              <p:nvPr/>
            </p:nvSpPr>
            <p:spPr>
              <a:xfrm>
                <a:off x="6390360" y="2022840"/>
                <a:ext cx="1080" cy="178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22"/>
              <p:cNvSpPr/>
              <p:nvPr/>
            </p:nvSpPr>
            <p:spPr>
              <a:xfrm>
                <a:off x="6499800" y="1880640"/>
                <a:ext cx="1785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Oval 23"/>
            <p:cNvSpPr/>
            <p:nvPr/>
          </p:nvSpPr>
          <p:spPr>
            <a:xfrm>
              <a:off x="5940360" y="1700280"/>
              <a:ext cx="647640" cy="360360"/>
            </a:xfrm>
            <a:prstGeom prst="ellipse">
              <a:avLst/>
            </a:prstGeom>
            <a:noFill/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2055600" y="2728800"/>
            <a:ext cx="46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2d2db9"/>
                </a:solidFill>
                <a:latin typeface="Arial"/>
              </a:rPr>
              <a:t>http://www.iubmb-nicholson.org/tc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395280" y="260280"/>
            <a:ext cx="856944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Hemos dado hasta ahora una vuela completa al ciclo de Krebs en el cu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2 átomos de carbono entraron al ciclo en forma de Acetil-CoA y se combinaron con el oxalacetato del ciclo anteri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2  átomos de carbono salieron del ciclo en forma de CO2 en los procesos de oxidación del isocitrato y el alfa-cetoglutarat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La energía de las oxidaciones se conser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con eficiencia en forma de 3 NADH, 1 FADH</a:t>
            </a:r>
            <a:r>
              <a:rPr b="1" lang="es-E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y 1GTP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Finalmente se regene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la molécula de oxalacetato para dar inicio a otra vuelta del cic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Group 2"/>
          <p:cNvGrpSpPr/>
          <p:nvPr/>
        </p:nvGrpSpPr>
        <p:grpSpPr>
          <a:xfrm>
            <a:off x="2916360" y="3090960"/>
            <a:ext cx="4317840" cy="3671640"/>
            <a:chOff x="2916360" y="3090960"/>
            <a:chExt cx="4317840" cy="3671640"/>
          </a:xfrm>
        </p:grpSpPr>
        <p:pic>
          <p:nvPicPr>
            <p:cNvPr id="358" name="Picture 3" descr=""/>
            <p:cNvPicPr/>
            <p:nvPr/>
          </p:nvPicPr>
          <p:blipFill>
            <a:blip r:embed="rId1"/>
            <a:stretch/>
          </p:blipFill>
          <p:spPr>
            <a:xfrm>
              <a:off x="2916360" y="3090960"/>
              <a:ext cx="431784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4"/>
            <p:cNvSpPr/>
            <p:nvPr/>
          </p:nvSpPr>
          <p:spPr>
            <a:xfrm>
              <a:off x="2916360" y="3090960"/>
              <a:ext cx="4317840" cy="36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 rot="294600">
            <a:off x="2626920" y="1700280"/>
            <a:ext cx="4103640" cy="403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79" y="31"/>
                </a:moveTo>
                <a:cubicBezTo>
                  <a:pt x="10252" y="10"/>
                  <a:pt x="1052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214"/>
                  <a:pt x="18913" y="19183"/>
                  <a:pt x="14816" y="20825"/>
                </a:cubicBezTo>
                <a:lnTo>
                  <a:pt x="10800" y="10800"/>
                </a:lnTo>
                <a:lnTo>
                  <a:pt x="9979" y="31"/>
                </a:lnTo>
                <a:close/>
              </a:path>
              <a:path fill="none" w="21600" h="21600">
                <a:moveTo>
                  <a:pt x="9979" y="31"/>
                </a:moveTo>
                <a:cubicBezTo>
                  <a:pt x="10252" y="10"/>
                  <a:pt x="1052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214"/>
                  <a:pt x="18913" y="19183"/>
                  <a:pt x="14816" y="20825"/>
                </a:cubicBezTo>
              </a:path>
            </a:pathLst>
          </a:custGeom>
          <a:noFill/>
          <a:ln w="69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16"/>
          <p:cNvSpPr/>
          <p:nvPr/>
        </p:nvSpPr>
        <p:spPr>
          <a:xfrm rot="10056600">
            <a:off x="2626920" y="1557000"/>
            <a:ext cx="4321080" cy="417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4902"/>
                  <a:pt x="19275" y="18650"/>
                  <a:pt x="15601" y="20473"/>
                </a:cubicBezTo>
                <a:lnTo>
                  <a:pt x="10800" y="10800"/>
                </a:lnTo>
                <a:lnTo>
                  <a:pt x="10799" y="0"/>
                </a:lnTo>
                <a:close/>
              </a:path>
              <a:path fill="none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4902"/>
                  <a:pt x="19275" y="18650"/>
                  <a:pt x="15601" y="20473"/>
                </a:cubicBezTo>
              </a:path>
            </a:pathLst>
          </a:custGeom>
          <a:noFill/>
          <a:ln w="698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upo 2"/>
          <p:cNvGrpSpPr/>
          <p:nvPr/>
        </p:nvGrpSpPr>
        <p:grpSpPr>
          <a:xfrm>
            <a:off x="3581280" y="0"/>
            <a:ext cx="5562720" cy="6578640"/>
            <a:chOff x="3581280" y="0"/>
            <a:chExt cx="5562720" cy="6578640"/>
          </a:xfrm>
        </p:grpSpPr>
        <p:pic>
          <p:nvPicPr>
            <p:cNvPr id="368" name="Picture 1" descr=""/>
            <p:cNvPicPr/>
            <p:nvPr/>
          </p:nvPicPr>
          <p:blipFill>
            <a:blip r:embed="rId1"/>
            <a:stretch/>
          </p:blipFill>
          <p:spPr>
            <a:xfrm>
              <a:off x="3581280" y="0"/>
              <a:ext cx="556272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CuadroTexto 1"/>
            <p:cNvSpPr/>
            <p:nvPr/>
          </p:nvSpPr>
          <p:spPr>
            <a:xfrm>
              <a:off x="7395120" y="1598040"/>
              <a:ext cx="1065240" cy="261360"/>
            </a:xfrm>
            <a:prstGeom prst="rect">
              <a:avLst/>
            </a:prstGeom>
            <a:solidFill>
              <a:srgbClr val="dd9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"/>
                </a:rPr>
                <a:t>Acil-Co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Text Box 2"/>
          <p:cNvSpPr/>
          <p:nvPr/>
        </p:nvSpPr>
        <p:spPr>
          <a:xfrm>
            <a:off x="76320" y="26028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gulación del Ciclo de Kre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5508720" y="1125360"/>
            <a:ext cx="3311280" cy="1656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6227640" y="3213000"/>
            <a:ext cx="2808360" cy="1584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5292720" y="4149720"/>
            <a:ext cx="2519280" cy="2232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8 CuadroTexto"/>
          <p:cNvSpPr/>
          <p:nvPr/>
        </p:nvSpPr>
        <p:spPr>
          <a:xfrm>
            <a:off x="142920" y="2654280"/>
            <a:ext cx="43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trato sin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ocitrato deshidroge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CG deshidroge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1187280" y="214560"/>
            <a:ext cx="67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990033"/>
                </a:solidFill>
                <a:latin typeface="Arial"/>
              </a:rPr>
              <a:t>C. Transformación del piruvato en Acetil-C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55680" y="771480"/>
            <a:ext cx="83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El acetil-CoA se forma por </a:t>
            </a:r>
            <a:r>
              <a:rPr b="1" lang="es-ES" sz="1800" spc="-1" strike="noStrike" u="sng">
                <a:solidFill>
                  <a:srgbClr val="ff0000"/>
                </a:solidFill>
                <a:uFillTx/>
                <a:latin typeface="Arial"/>
              </a:rPr>
              <a:t>descarboxilación oxidativa del piruvato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, por la acción del </a:t>
            </a:r>
            <a:r>
              <a:rPr b="1" lang="es-ES" sz="1800" spc="-1" strike="noStrike" u="sng">
                <a:solidFill>
                  <a:srgbClr val="ff0000"/>
                </a:solidFill>
                <a:uFillTx/>
                <a:latin typeface="Arial"/>
              </a:rPr>
              <a:t>complejo multienzimático: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990033"/>
                </a:solidFill>
                <a:latin typeface="Arial"/>
              </a:rPr>
              <a:t>Piruvato deshidrogenasa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(</a:t>
            </a:r>
            <a:r>
              <a:rPr b="1" i="1" lang="es-ES" sz="1800" spc="-1" strike="noStrike">
                <a:solidFill>
                  <a:srgbClr val="990033"/>
                </a:solidFill>
                <a:latin typeface="Arial"/>
              </a:rPr>
              <a:t>PDH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Object 3"/>
          <p:cNvGraphicFramePr/>
          <p:nvPr/>
        </p:nvGraphicFramePr>
        <p:xfrm>
          <a:off x="1619280" y="1628640"/>
          <a:ext cx="612144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612144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4"/>
          <p:cNvSpPr/>
          <p:nvPr/>
        </p:nvSpPr>
        <p:spPr>
          <a:xfrm>
            <a:off x="324000" y="3860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DH es un complejo, constituido por tres enzimas (E1, E2 y E3, Piruvato descarboxilasa, Dihidrolipoil transacetilasa y Lipoil deshidrogenasa) y 5 coenzimas (TPP, ac. Lipoico, Coenzima A, FAD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NAD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3"/>
          <a:srcRect l="8780" t="28345" r="7696" b="28345"/>
          <a:stretch/>
        </p:blipFill>
        <p:spPr>
          <a:xfrm>
            <a:off x="1114560" y="4857840"/>
            <a:ext cx="7130880" cy="1668240"/>
          </a:xfrm>
          <a:prstGeom prst="rect">
            <a:avLst/>
          </a:prstGeom>
          <a:ln w="31680">
            <a:solidFill>
              <a:srgbClr val="800000"/>
            </a:solidFill>
            <a:miter/>
          </a:ln>
        </p:spPr>
      </p:pic>
      <p:sp>
        <p:nvSpPr>
          <p:cNvPr id="93" name="Text Box 6"/>
          <p:cNvSpPr/>
          <p:nvPr/>
        </p:nvSpPr>
        <p:spPr>
          <a:xfrm>
            <a:off x="6045120" y="198900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187280" y="605628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376" name="Group 3"/>
          <p:cNvGrpSpPr/>
          <p:nvPr/>
        </p:nvGrpSpPr>
        <p:grpSpPr>
          <a:xfrm>
            <a:off x="3147480" y="1052640"/>
            <a:ext cx="1612440" cy="1374840"/>
            <a:chOff x="3147480" y="1052640"/>
            <a:chExt cx="1612440" cy="1374840"/>
          </a:xfrm>
        </p:grpSpPr>
        <p:sp>
          <p:nvSpPr>
            <p:cNvPr id="377" name="Text Box 4"/>
            <p:cNvSpPr/>
            <p:nvPr/>
          </p:nvSpPr>
          <p:spPr>
            <a:xfrm>
              <a:off x="3245760" y="105264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>
              <a:off x="3921840" y="1340640"/>
              <a:ext cx="1440" cy="7182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3147480" y="20592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3923280" y="15566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Group 8"/>
          <p:cNvGrpSpPr/>
          <p:nvPr/>
        </p:nvGrpSpPr>
        <p:grpSpPr>
          <a:xfrm>
            <a:off x="5435640" y="2540160"/>
            <a:ext cx="1651320" cy="673560"/>
            <a:chOff x="5435640" y="2540160"/>
            <a:chExt cx="1651320" cy="673560"/>
          </a:xfrm>
        </p:grpSpPr>
        <p:sp>
          <p:nvSpPr>
            <p:cNvPr id="382" name="Text Box 9"/>
            <p:cNvSpPr/>
            <p:nvPr/>
          </p:nvSpPr>
          <p:spPr>
            <a:xfrm>
              <a:off x="5842440" y="284544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10"/>
            <p:cNvSpPr/>
            <p:nvPr/>
          </p:nvSpPr>
          <p:spPr>
            <a:xfrm>
              <a:off x="5435640" y="254016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Group 11"/>
          <p:cNvGrpSpPr/>
          <p:nvPr/>
        </p:nvGrpSpPr>
        <p:grpSpPr>
          <a:xfrm>
            <a:off x="2292840" y="2511360"/>
            <a:ext cx="1497600" cy="773640"/>
            <a:chOff x="2292840" y="2511360"/>
            <a:chExt cx="1497600" cy="773640"/>
          </a:xfrm>
        </p:grpSpPr>
        <p:sp>
          <p:nvSpPr>
            <p:cNvPr id="385" name="Text Box 12"/>
            <p:cNvSpPr/>
            <p:nvPr/>
          </p:nvSpPr>
          <p:spPr>
            <a:xfrm>
              <a:off x="2292840" y="291672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6" name="Group 13"/>
            <p:cNvGrpSpPr/>
            <p:nvPr/>
          </p:nvGrpSpPr>
          <p:grpSpPr>
            <a:xfrm>
              <a:off x="2920680" y="2511360"/>
              <a:ext cx="517320" cy="554400"/>
              <a:chOff x="2920680" y="2511360"/>
              <a:chExt cx="517320" cy="554400"/>
            </a:xfrm>
          </p:grpSpPr>
          <p:sp>
            <p:nvSpPr>
              <p:cNvPr id="387" name="Text Box 14"/>
              <p:cNvSpPr/>
              <p:nvPr/>
            </p:nvSpPr>
            <p:spPr>
              <a:xfrm>
                <a:off x="292068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8" name="Group 15"/>
              <p:cNvGrpSpPr/>
              <p:nvPr/>
            </p:nvGrpSpPr>
            <p:grpSpPr>
              <a:xfrm>
                <a:off x="2944800" y="2572920"/>
                <a:ext cx="404280" cy="492840"/>
                <a:chOff x="2944800" y="2572920"/>
                <a:chExt cx="404280" cy="492840"/>
              </a:xfrm>
            </p:grpSpPr>
            <p:sp>
              <p:nvSpPr>
                <p:cNvPr id="389" name="Line 16"/>
                <p:cNvSpPr/>
                <p:nvPr/>
              </p:nvSpPr>
              <p:spPr>
                <a:xfrm>
                  <a:off x="2945160" y="2572920"/>
                  <a:ext cx="402840" cy="4928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7"/>
                <p:cNvSpPr/>
                <p:nvPr/>
              </p:nvSpPr>
              <p:spPr>
                <a:xfrm flipH="1">
                  <a:off x="2944800" y="2572920"/>
                  <a:ext cx="404280" cy="4294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1" name="Text Box 18"/>
          <p:cNvSpPr/>
          <p:nvPr/>
        </p:nvSpPr>
        <p:spPr>
          <a:xfrm>
            <a:off x="298620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9"/>
          <p:cNvSpPr/>
          <p:nvPr/>
        </p:nvSpPr>
        <p:spPr>
          <a:xfrm>
            <a:off x="1317600" y="3933720"/>
            <a:ext cx="152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lactobacil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20"/>
          <p:cNvGrpSpPr/>
          <p:nvPr/>
        </p:nvGrpSpPr>
        <p:grpSpPr>
          <a:xfrm>
            <a:off x="3074760" y="2492280"/>
            <a:ext cx="1939320" cy="1341000"/>
            <a:chOff x="3074760" y="2492280"/>
            <a:chExt cx="1939320" cy="1341000"/>
          </a:xfrm>
        </p:grpSpPr>
        <p:sp>
          <p:nvSpPr>
            <p:cNvPr id="394" name="Line 21"/>
            <p:cNvSpPr/>
            <p:nvPr/>
          </p:nvSpPr>
          <p:spPr>
            <a:xfrm>
              <a:off x="3921840" y="2492280"/>
              <a:ext cx="1440" cy="935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22"/>
            <p:cNvSpPr/>
            <p:nvPr/>
          </p:nvSpPr>
          <p:spPr>
            <a:xfrm>
              <a:off x="3074760" y="342756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n-US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Group 23"/>
          <p:cNvGrpSpPr/>
          <p:nvPr/>
        </p:nvGrpSpPr>
        <p:grpSpPr>
          <a:xfrm>
            <a:off x="1528200" y="2421000"/>
            <a:ext cx="1600560" cy="1375200"/>
            <a:chOff x="1528200" y="2421000"/>
            <a:chExt cx="1600560" cy="1375200"/>
          </a:xfrm>
        </p:grpSpPr>
        <p:sp>
          <p:nvSpPr>
            <p:cNvPr id="397" name="Line 24"/>
            <p:cNvSpPr/>
            <p:nvPr/>
          </p:nvSpPr>
          <p:spPr>
            <a:xfrm flipH="1">
              <a:off x="1975320" y="2421000"/>
              <a:ext cx="1153440" cy="935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Text Box 25"/>
            <p:cNvSpPr/>
            <p:nvPr/>
          </p:nvSpPr>
          <p:spPr>
            <a:xfrm>
              <a:off x="1528200" y="342792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Group 26"/>
          <p:cNvGrpSpPr/>
          <p:nvPr/>
        </p:nvGrpSpPr>
        <p:grpSpPr>
          <a:xfrm>
            <a:off x="4643280" y="2421000"/>
            <a:ext cx="3150000" cy="2669760"/>
            <a:chOff x="4643280" y="2421000"/>
            <a:chExt cx="3150000" cy="2669760"/>
          </a:xfrm>
        </p:grpSpPr>
        <p:sp>
          <p:nvSpPr>
            <p:cNvPr id="400" name="Line 27"/>
            <p:cNvSpPr/>
            <p:nvPr/>
          </p:nvSpPr>
          <p:spPr>
            <a:xfrm>
              <a:off x="4643280" y="2421000"/>
              <a:ext cx="1656360" cy="93600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28"/>
            <p:cNvSpPr/>
            <p:nvPr/>
          </p:nvSpPr>
          <p:spPr>
            <a:xfrm>
              <a:off x="5385960" y="342828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29"/>
            <p:cNvSpPr/>
            <p:nvPr/>
          </p:nvSpPr>
          <p:spPr>
            <a:xfrm>
              <a:off x="5605920" y="468504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n-U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n-U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3" name="Group 30"/>
            <p:cNvGrpSpPr/>
            <p:nvPr/>
          </p:nvGrpSpPr>
          <p:grpSpPr>
            <a:xfrm>
              <a:off x="6371280" y="3932640"/>
              <a:ext cx="645480" cy="716760"/>
              <a:chOff x="6371280" y="3932640"/>
              <a:chExt cx="645480" cy="716760"/>
            </a:xfrm>
          </p:grpSpPr>
          <p:sp>
            <p:nvSpPr>
              <p:cNvPr id="404" name="Line 31"/>
              <p:cNvSpPr/>
              <p:nvPr/>
            </p:nvSpPr>
            <p:spPr>
              <a:xfrm>
                <a:off x="6371280" y="3932640"/>
                <a:ext cx="1080" cy="71676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Text Box 32"/>
              <p:cNvSpPr/>
              <p:nvPr/>
            </p:nvSpPr>
            <p:spPr>
              <a:xfrm>
                <a:off x="6442920" y="40748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Oval 33"/>
              <p:cNvSpPr/>
              <p:nvPr/>
            </p:nvSpPr>
            <p:spPr>
              <a:xfrm>
                <a:off x="6371280" y="3932640"/>
                <a:ext cx="645480" cy="645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Text Box 34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35"/>
          <p:cNvSpPr/>
          <p:nvPr/>
        </p:nvSpPr>
        <p:spPr>
          <a:xfrm>
            <a:off x="1279800" y="368280"/>
            <a:ext cx="66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D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estino del Piruvato según las condiciones celu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Oval 36"/>
          <p:cNvSpPr/>
          <p:nvPr/>
        </p:nvSpPr>
        <p:spPr>
          <a:xfrm>
            <a:off x="450072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Oval 37"/>
          <p:cNvSpPr/>
          <p:nvPr/>
        </p:nvSpPr>
        <p:spPr>
          <a:xfrm rot="20160000">
            <a:off x="4995720" y="691920"/>
            <a:ext cx="2157480" cy="55432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539640" y="2565360"/>
            <a:ext cx="8209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¿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á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nta energía es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á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contenida en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"/>
              </a:rPr>
              <a:t>un mol de piruvato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que es degradado hasta CO</a:t>
            </a:r>
            <a:r>
              <a:rPr b="1" lang="es-E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y H</a:t>
            </a:r>
            <a:r>
              <a:rPr b="1" lang="es-E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O en la mitocondria en condiciones de aerobio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0" y="0"/>
            <a:ext cx="9142560" cy="6832440"/>
            <a:chOff x="0" y="0"/>
            <a:chExt cx="9142560" cy="6832440"/>
          </a:xfrm>
        </p:grpSpPr>
        <p:grpSp>
          <p:nvGrpSpPr>
            <p:cNvPr id="413" name="Group 3"/>
            <p:cNvGrpSpPr/>
            <p:nvPr/>
          </p:nvGrpSpPr>
          <p:grpSpPr>
            <a:xfrm>
              <a:off x="0" y="0"/>
              <a:ext cx="9142560" cy="6832440"/>
              <a:chOff x="0" y="0"/>
              <a:chExt cx="9142560" cy="6832440"/>
            </a:xfrm>
          </p:grpSpPr>
          <p:grpSp>
            <p:nvGrpSpPr>
              <p:cNvPr id="414" name="Group 4"/>
              <p:cNvGrpSpPr/>
              <p:nvPr/>
            </p:nvGrpSpPr>
            <p:grpSpPr>
              <a:xfrm>
                <a:off x="0" y="0"/>
                <a:ext cx="9142560" cy="6832440"/>
                <a:chOff x="0" y="0"/>
                <a:chExt cx="9142560" cy="6832440"/>
              </a:xfrm>
            </p:grpSpPr>
            <p:pic>
              <p:nvPicPr>
                <p:cNvPr id="415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2560" cy="683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6" name="Text Box 6"/>
                <p:cNvSpPr/>
                <p:nvPr/>
              </p:nvSpPr>
              <p:spPr>
                <a:xfrm>
                  <a:off x="3389760" y="715680"/>
                  <a:ext cx="38160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AD</a:t>
                  </a:r>
                  <a:r>
                    <a:rPr b="1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Text Box 7"/>
                <p:cNvSpPr/>
                <p:nvPr/>
              </p:nvSpPr>
              <p:spPr>
                <a:xfrm>
                  <a:off x="3225960" y="1076040"/>
                  <a:ext cx="68976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ADH+H</a:t>
                  </a:r>
                  <a:r>
                    <a:rPr b="1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AutoShape 8"/>
              <p:cNvSpPr/>
              <p:nvPr/>
            </p:nvSpPr>
            <p:spPr>
              <a:xfrm rot="20100000">
                <a:off x="3606840" y="747360"/>
                <a:ext cx="630360" cy="431640"/>
              </a:xfrm>
              <a:custGeom>
                <a:avLst/>
                <a:gdLst>
                  <a:gd name="textAreaLeft" fmla="*/ 270000 w 630360"/>
                  <a:gd name="textAreaRight" fmla="*/ 630720 w 630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487" y="4"/>
                    </a:moveTo>
                    <a:cubicBezTo>
                      <a:pt x="10591" y="1"/>
                      <a:pt x="1069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  <a:lnTo>
                      <a:pt x="10800" y="10800"/>
                    </a:lnTo>
                    <a:lnTo>
                      <a:pt x="10487" y="4"/>
                    </a:lnTo>
                    <a:close/>
                  </a:path>
                  <a:path fill="none" w="21600" h="21600">
                    <a:moveTo>
                      <a:pt x="10487" y="4"/>
                    </a:moveTo>
                    <a:cubicBezTo>
                      <a:pt x="10591" y="1"/>
                      <a:pt x="1069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</a:path>
                </a:pathLst>
              </a:custGeom>
              <a:noFill/>
              <a:ln w="22320">
                <a:solidFill>
                  <a:srgbClr val="99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9" name="Rectangle 9"/>
            <p:cNvSpPr/>
            <p:nvPr/>
          </p:nvSpPr>
          <p:spPr>
            <a:xfrm>
              <a:off x="6877080" y="260280"/>
              <a:ext cx="1655640" cy="1224000"/>
            </a:xfrm>
            <a:prstGeom prst="rect">
              <a:avLst/>
            </a:prstGeom>
            <a:solidFill>
              <a:srgbClr val="f6e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Rectangle 10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11"/>
          <p:cNvGrpSpPr/>
          <p:nvPr/>
        </p:nvGrpSpPr>
        <p:grpSpPr>
          <a:xfrm>
            <a:off x="8102160" y="3206880"/>
            <a:ext cx="828360" cy="867960"/>
            <a:chOff x="8102160" y="3206880"/>
            <a:chExt cx="828360" cy="867960"/>
          </a:xfrm>
        </p:grpSpPr>
        <p:sp>
          <p:nvSpPr>
            <p:cNvPr id="422" name="Line 12"/>
            <p:cNvSpPr/>
            <p:nvPr/>
          </p:nvSpPr>
          <p:spPr>
            <a:xfrm flipV="1">
              <a:off x="8603280" y="3497400"/>
              <a:ext cx="1080" cy="577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13"/>
            <p:cNvSpPr/>
            <p:nvPr/>
          </p:nvSpPr>
          <p:spPr>
            <a:xfrm>
              <a:off x="8102160" y="3206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Group 14"/>
          <p:cNvGrpSpPr/>
          <p:nvPr/>
        </p:nvGrpSpPr>
        <p:grpSpPr>
          <a:xfrm>
            <a:off x="7597440" y="5149800"/>
            <a:ext cx="828360" cy="869400"/>
            <a:chOff x="7597440" y="5149800"/>
            <a:chExt cx="828360" cy="869400"/>
          </a:xfrm>
        </p:grpSpPr>
        <p:sp>
          <p:nvSpPr>
            <p:cNvPr id="425" name="Line 15"/>
            <p:cNvSpPr/>
            <p:nvPr/>
          </p:nvSpPr>
          <p:spPr>
            <a:xfrm flipV="1">
              <a:off x="8026920" y="5442120"/>
              <a:ext cx="1080" cy="577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16"/>
            <p:cNvSpPr/>
            <p:nvPr/>
          </p:nvSpPr>
          <p:spPr>
            <a:xfrm>
              <a:off x="7597440" y="51498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Group 17"/>
          <p:cNvGrpSpPr/>
          <p:nvPr/>
        </p:nvGrpSpPr>
        <p:grpSpPr>
          <a:xfrm>
            <a:off x="396360" y="2990880"/>
            <a:ext cx="828360" cy="1010880"/>
            <a:chOff x="396360" y="2990880"/>
            <a:chExt cx="828360" cy="1010880"/>
          </a:xfrm>
        </p:grpSpPr>
        <p:sp>
          <p:nvSpPr>
            <p:cNvPr id="428" name="Line 18"/>
            <p:cNvSpPr/>
            <p:nvPr/>
          </p:nvSpPr>
          <p:spPr>
            <a:xfrm flipV="1">
              <a:off x="683640" y="3281760"/>
              <a:ext cx="1080" cy="720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19"/>
            <p:cNvSpPr/>
            <p:nvPr/>
          </p:nvSpPr>
          <p:spPr>
            <a:xfrm>
              <a:off x="396360" y="2990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Group 22"/>
          <p:cNvGrpSpPr/>
          <p:nvPr/>
        </p:nvGrpSpPr>
        <p:grpSpPr>
          <a:xfrm>
            <a:off x="469440" y="255600"/>
            <a:ext cx="828360" cy="867960"/>
            <a:chOff x="469440" y="255600"/>
            <a:chExt cx="828360" cy="867960"/>
          </a:xfrm>
        </p:grpSpPr>
        <p:sp>
          <p:nvSpPr>
            <p:cNvPr id="431" name="Line 23"/>
            <p:cNvSpPr/>
            <p:nvPr/>
          </p:nvSpPr>
          <p:spPr>
            <a:xfrm flipV="1">
              <a:off x="970560" y="546120"/>
              <a:ext cx="1080" cy="577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24"/>
            <p:cNvSpPr/>
            <p:nvPr/>
          </p:nvSpPr>
          <p:spPr>
            <a:xfrm>
              <a:off x="469440" y="2556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3" name="Group 25"/>
          <p:cNvGrpSpPr/>
          <p:nvPr/>
        </p:nvGrpSpPr>
        <p:grpSpPr>
          <a:xfrm>
            <a:off x="1909080" y="476280"/>
            <a:ext cx="1292040" cy="718920"/>
            <a:chOff x="1909080" y="476280"/>
            <a:chExt cx="1292040" cy="718920"/>
          </a:xfrm>
        </p:grpSpPr>
        <p:sp>
          <p:nvSpPr>
            <p:cNvPr id="434" name="Line 26"/>
            <p:cNvSpPr/>
            <p:nvPr/>
          </p:nvSpPr>
          <p:spPr>
            <a:xfrm flipH="1" flipV="1">
              <a:off x="2408040" y="766800"/>
              <a:ext cx="793080" cy="428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27"/>
            <p:cNvSpPr/>
            <p:nvPr/>
          </p:nvSpPr>
          <p:spPr>
            <a:xfrm>
              <a:off x="1909080" y="4762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6" name="Oval 28"/>
          <p:cNvSpPr/>
          <p:nvPr/>
        </p:nvSpPr>
        <p:spPr>
          <a:xfrm>
            <a:off x="3708360" y="47628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Oval 29"/>
          <p:cNvSpPr/>
          <p:nvPr/>
        </p:nvSpPr>
        <p:spPr>
          <a:xfrm>
            <a:off x="2124000" y="602136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30"/>
          <p:cNvSpPr/>
          <p:nvPr/>
        </p:nvSpPr>
        <p:spPr>
          <a:xfrm>
            <a:off x="6099120" y="76320"/>
            <a:ext cx="2911680" cy="20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PDH------- 1 NADH ----- 3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IDH-------- 1 NADH ----- 3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l-GR" sz="1600" spc="-1" strike="noStrike">
                <a:solidFill>
                  <a:srgbClr val="0000ff"/>
                </a:solidFill>
                <a:latin typeface="Arial"/>
                <a:ea typeface="Arial"/>
              </a:rPr>
              <a:t>α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-CGDH-- 1 NADH ---- 3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SDH------- 1 FADH</a:t>
            </a:r>
            <a:r>
              <a:rPr b="1" lang="es-E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---- 2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DH------- 1 NADH ---- 3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STQ-------- 1 GTP ------ 1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TOTAL -------------------15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8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9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0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755640" y="2421000"/>
            <a:ext cx="7632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¿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nta energía es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contenida en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un mol de</a:t>
            </a:r>
            <a:r>
              <a:rPr b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glucosa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que es degradada hasta CO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y H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O en condiciones de aerobio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rcRect l="0" t="10438" r="41985" b="0"/>
          <a:stretch/>
        </p:blipFill>
        <p:spPr>
          <a:xfrm>
            <a:off x="2556000" y="115920"/>
            <a:ext cx="3724200" cy="6669000"/>
          </a:xfrm>
          <a:prstGeom prst="rect">
            <a:avLst/>
          </a:prstGeom>
          <a:ln w="0">
            <a:noFill/>
          </a:ln>
        </p:spPr>
      </p:pic>
      <p:grpSp>
        <p:nvGrpSpPr>
          <p:cNvPr id="441" name="Group 3"/>
          <p:cNvGrpSpPr/>
          <p:nvPr/>
        </p:nvGrpSpPr>
        <p:grpSpPr>
          <a:xfrm>
            <a:off x="2556000" y="144360"/>
            <a:ext cx="3309840" cy="3138480"/>
            <a:chOff x="2556000" y="144360"/>
            <a:chExt cx="3309840" cy="3138480"/>
          </a:xfrm>
        </p:grpSpPr>
        <p:sp>
          <p:nvSpPr>
            <p:cNvPr id="442" name="Rectangle 4"/>
            <p:cNvSpPr/>
            <p:nvPr/>
          </p:nvSpPr>
          <p:spPr>
            <a:xfrm>
              <a:off x="2556000" y="144360"/>
              <a:ext cx="3309840" cy="3138480"/>
            </a:xfrm>
            <a:prstGeom prst="rect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Text Box 5"/>
            <p:cNvSpPr/>
            <p:nvPr/>
          </p:nvSpPr>
          <p:spPr>
            <a:xfrm rot="19560000">
              <a:off x="2772720" y="83700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Citos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4" name="Group 6"/>
          <p:cNvGrpSpPr/>
          <p:nvPr/>
        </p:nvGrpSpPr>
        <p:grpSpPr>
          <a:xfrm>
            <a:off x="2864880" y="2881440"/>
            <a:ext cx="4448520" cy="3498840"/>
            <a:chOff x="2864880" y="2881440"/>
            <a:chExt cx="4448520" cy="3498840"/>
          </a:xfrm>
        </p:grpSpPr>
        <p:sp>
          <p:nvSpPr>
            <p:cNvPr id="445" name="Rectangle 7"/>
            <p:cNvSpPr/>
            <p:nvPr/>
          </p:nvSpPr>
          <p:spPr>
            <a:xfrm>
              <a:off x="2872800" y="2881440"/>
              <a:ext cx="4440600" cy="34988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8"/>
            <p:cNvSpPr/>
            <p:nvPr/>
          </p:nvSpPr>
          <p:spPr>
            <a:xfrm rot="19740000">
              <a:off x="2854080" y="349488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itocondr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7" name="Group 9"/>
          <p:cNvGrpSpPr/>
          <p:nvPr/>
        </p:nvGrpSpPr>
        <p:grpSpPr>
          <a:xfrm>
            <a:off x="6227640" y="2900880"/>
            <a:ext cx="1055520" cy="3399480"/>
            <a:chOff x="6227640" y="2900880"/>
            <a:chExt cx="1055520" cy="3399480"/>
          </a:xfrm>
        </p:grpSpPr>
        <p:sp>
          <p:nvSpPr>
            <p:cNvPr id="448" name="Line 10"/>
            <p:cNvSpPr/>
            <p:nvPr/>
          </p:nvSpPr>
          <p:spPr>
            <a:xfrm>
              <a:off x="6227640" y="3573000"/>
              <a:ext cx="71676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1"/>
            <p:cNvSpPr/>
            <p:nvPr/>
          </p:nvSpPr>
          <p:spPr>
            <a:xfrm>
              <a:off x="6227640" y="4796280"/>
              <a:ext cx="71676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Line 12"/>
            <p:cNvSpPr/>
            <p:nvPr/>
          </p:nvSpPr>
          <p:spPr>
            <a:xfrm>
              <a:off x="6227640" y="5803920"/>
              <a:ext cx="71676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3"/>
            <p:cNvSpPr/>
            <p:nvPr/>
          </p:nvSpPr>
          <p:spPr>
            <a:xfrm rot="5400000">
              <a:off x="5414760" y="4431960"/>
              <a:ext cx="33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Cadena de transporte electrónic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2" name="AutoShape 14"/>
          <p:cNvSpPr/>
          <p:nvPr/>
        </p:nvSpPr>
        <p:spPr>
          <a:xfrm rot="18900000">
            <a:off x="6226200" y="1282320"/>
            <a:ext cx="719280" cy="2160720"/>
          </a:xfrm>
          <a:custGeom>
            <a:avLst/>
            <a:gdLst>
              <a:gd name="textAreaLeft" fmla="*/ 96120 w 719280"/>
              <a:gd name="textAreaRight" fmla="*/ 623160 w 719280"/>
              <a:gd name="textAreaTop" fmla="*/ 442800 h 2160720"/>
              <a:gd name="textAreaBottom" fmla="*/ 149796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53" stAng="-5400000" swAng="5400000"/>
                <a:lnTo>
                  <a:pt x="21600" y="10548"/>
                </a:lnTo>
                <a:arcTo wR="21600" hR="8853" stAng="0" swAng="1477071"/>
                <a:lnTo>
                  <a:pt x="14400" y="19346"/>
                </a:lnTo>
                <a:lnTo>
                  <a:pt x="0" y="18553"/>
                </a:lnTo>
                <a:lnTo>
                  <a:pt x="14400" y="13251"/>
                </a:lnTo>
                <a:lnTo>
                  <a:pt x="14400" y="15451"/>
                </a:lnTo>
                <a:arcTo wR="21600" hR="8853" stAng="1477071" swAng="-1341635"/>
                <a:lnTo>
                  <a:pt x="21501" y="9700"/>
                </a:lnTo>
                <a:arcTo wR="21600" hR="8853" stAng="-135436" swAng="-5264564"/>
                <a:close/>
              </a:path>
              <a:path fill="darkenLess" w="21600" h="21600">
                <a:moveTo>
                  <a:pt x="0" y="0"/>
                </a:moveTo>
                <a:arcTo wR="21600" hR="8853" stAng="-5400000" swAng="5400000"/>
                <a:lnTo>
                  <a:pt x="21600" y="10548"/>
                </a:lnTo>
                <a:arcTo wR="21600" hR="8853" stAng="0" swAng="-135436"/>
                <a:lnTo>
                  <a:pt x="21501" y="9700"/>
                </a:lnTo>
                <a:arcTo wR="21600" hR="8853" stAng="-135436" swAng="-526456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6066000" y="1986120"/>
            <a:ext cx="1819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s lanzad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611280" y="1557360"/>
            <a:ext cx="5687640" cy="3303720"/>
            <a:chOff x="611280" y="1557360"/>
            <a:chExt cx="5687640" cy="3303720"/>
          </a:xfrm>
        </p:grpSpPr>
        <p:sp>
          <p:nvSpPr>
            <p:cNvPr id="455" name="Text Box 3"/>
            <p:cNvSpPr/>
            <p:nvPr/>
          </p:nvSpPr>
          <p:spPr>
            <a:xfrm>
              <a:off x="611280" y="2780640"/>
              <a:ext cx="17992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istemas lanzader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4"/>
            <p:cNvSpPr/>
            <p:nvPr/>
          </p:nvSpPr>
          <p:spPr>
            <a:xfrm flipV="1">
              <a:off x="2483640" y="1987200"/>
              <a:ext cx="1079280" cy="79488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5"/>
            <p:cNvSpPr/>
            <p:nvPr/>
          </p:nvSpPr>
          <p:spPr>
            <a:xfrm>
              <a:off x="2483640" y="3572280"/>
              <a:ext cx="936360" cy="86292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6"/>
            <p:cNvSpPr/>
            <p:nvPr/>
          </p:nvSpPr>
          <p:spPr>
            <a:xfrm>
              <a:off x="3636000" y="1557360"/>
              <a:ext cx="237564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anzadera del glicerofosfa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7"/>
            <p:cNvSpPr/>
            <p:nvPr/>
          </p:nvSpPr>
          <p:spPr>
            <a:xfrm>
              <a:off x="3491280" y="4035600"/>
              <a:ext cx="280764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anzadera del malato-asparta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Group 8"/>
          <p:cNvGrpSpPr/>
          <p:nvPr/>
        </p:nvGrpSpPr>
        <p:grpSpPr>
          <a:xfrm>
            <a:off x="6083280" y="1123920"/>
            <a:ext cx="2838600" cy="1655640"/>
            <a:chOff x="6083280" y="1123920"/>
            <a:chExt cx="2838600" cy="1655640"/>
          </a:xfrm>
        </p:grpSpPr>
        <p:sp>
          <p:nvSpPr>
            <p:cNvPr id="461" name="AutoShape 9"/>
            <p:cNvSpPr/>
            <p:nvPr/>
          </p:nvSpPr>
          <p:spPr>
            <a:xfrm>
              <a:off x="6083280" y="1123920"/>
              <a:ext cx="217080" cy="1655640"/>
            </a:xfrm>
            <a:custGeom>
              <a:avLst/>
              <a:gdLst>
                <a:gd name="textAreaLeft" fmla="*/ 138600 w 217080"/>
                <a:gd name="textAreaRight" fmla="*/ 217440 w 21708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10"/>
            <p:cNvSpPr/>
            <p:nvPr/>
          </p:nvSpPr>
          <p:spPr>
            <a:xfrm>
              <a:off x="6153840" y="1485360"/>
              <a:ext cx="2768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úsculo esquelétic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erebr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3" name="Group 11"/>
          <p:cNvGrpSpPr/>
          <p:nvPr/>
        </p:nvGrpSpPr>
        <p:grpSpPr>
          <a:xfrm>
            <a:off x="6300720" y="3643200"/>
            <a:ext cx="1570320" cy="1656000"/>
            <a:chOff x="6300720" y="3643200"/>
            <a:chExt cx="1570320" cy="1656000"/>
          </a:xfrm>
        </p:grpSpPr>
        <p:sp>
          <p:nvSpPr>
            <p:cNvPr id="464" name="AutoShape 12"/>
            <p:cNvSpPr/>
            <p:nvPr/>
          </p:nvSpPr>
          <p:spPr>
            <a:xfrm>
              <a:off x="6300720" y="3643200"/>
              <a:ext cx="217080" cy="1656000"/>
            </a:xfrm>
            <a:custGeom>
              <a:avLst/>
              <a:gdLst>
                <a:gd name="textAreaLeft" fmla="*/ 138600 w 217080"/>
                <a:gd name="textAreaRight" fmla="*/ 217440 w 217080"/>
                <a:gd name="textAreaTop" fmla="*/ 42840 h 1656000"/>
                <a:gd name="textAreaBottom" fmla="*/ 1613160 h 16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13"/>
            <p:cNvSpPr/>
            <p:nvPr/>
          </p:nvSpPr>
          <p:spPr>
            <a:xfrm>
              <a:off x="6515640" y="3644640"/>
              <a:ext cx="13554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ígad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razó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iñó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2"/>
          <p:cNvGrpSpPr/>
          <p:nvPr/>
        </p:nvGrpSpPr>
        <p:grpSpPr>
          <a:xfrm>
            <a:off x="1800360" y="693720"/>
            <a:ext cx="6046560" cy="5354640"/>
            <a:chOff x="1800360" y="693720"/>
            <a:chExt cx="6046560" cy="5354640"/>
          </a:xfrm>
        </p:grpSpPr>
        <p:grpSp>
          <p:nvGrpSpPr>
            <p:cNvPr id="467" name="Group 3"/>
            <p:cNvGrpSpPr/>
            <p:nvPr/>
          </p:nvGrpSpPr>
          <p:grpSpPr>
            <a:xfrm>
              <a:off x="1800360" y="693720"/>
              <a:ext cx="6046560" cy="5354640"/>
              <a:chOff x="1800360" y="693720"/>
              <a:chExt cx="6046560" cy="5354640"/>
            </a:xfrm>
          </p:grpSpPr>
          <p:pic>
            <p:nvPicPr>
              <p:cNvPr id="468" name="Picture 4" descr=""/>
              <p:cNvPicPr/>
              <p:nvPr/>
            </p:nvPicPr>
            <p:blipFill>
              <a:blip r:embed="rId1">
                <a:grayscl/>
              </a:blip>
              <a:srcRect l="0" t="0" r="0" b="42653"/>
              <a:stretch/>
            </p:blipFill>
            <p:spPr>
              <a:xfrm>
                <a:off x="1800360" y="693720"/>
                <a:ext cx="6046560" cy="5354640"/>
              </a:xfrm>
              <a:prstGeom prst="rect">
                <a:avLst/>
              </a:prstGeom>
              <a:ln w="44280">
                <a:solidFill>
                  <a:srgbClr val="ff6600"/>
                </a:solidFill>
                <a:miter/>
              </a:ln>
            </p:spPr>
          </p:pic>
          <p:sp>
            <p:nvSpPr>
              <p:cNvPr id="469" name="Rectangle 5"/>
              <p:cNvSpPr/>
              <p:nvPr/>
            </p:nvSpPr>
            <p:spPr>
              <a:xfrm>
                <a:off x="1868760" y="810720"/>
                <a:ext cx="363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Lanzadera del glicerofosfato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" name="Oval 6"/>
            <p:cNvSpPr/>
            <p:nvPr/>
          </p:nvSpPr>
          <p:spPr>
            <a:xfrm>
              <a:off x="3276720" y="5084640"/>
              <a:ext cx="718920" cy="432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1" name="Group 7"/>
          <p:cNvGrpSpPr/>
          <p:nvPr/>
        </p:nvGrpSpPr>
        <p:grpSpPr>
          <a:xfrm>
            <a:off x="1728720" y="1557360"/>
            <a:ext cx="1942920" cy="645840"/>
            <a:chOff x="1728720" y="1557360"/>
            <a:chExt cx="1942920" cy="645840"/>
          </a:xfrm>
        </p:grpSpPr>
        <p:sp>
          <p:nvSpPr>
            <p:cNvPr id="472" name="Rectangle 8"/>
            <p:cNvSpPr/>
            <p:nvPr/>
          </p:nvSpPr>
          <p:spPr>
            <a:xfrm>
              <a:off x="2520360" y="1557360"/>
              <a:ext cx="1151280" cy="3585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9"/>
            <p:cNvSpPr/>
            <p:nvPr/>
          </p:nvSpPr>
          <p:spPr>
            <a:xfrm flipV="1">
              <a:off x="1728720" y="1914480"/>
              <a:ext cx="720000" cy="2887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4" name="Group 10"/>
          <p:cNvGrpSpPr/>
          <p:nvPr/>
        </p:nvGrpSpPr>
        <p:grpSpPr>
          <a:xfrm>
            <a:off x="1728720" y="3804840"/>
            <a:ext cx="1041480" cy="608760"/>
            <a:chOff x="1728720" y="3804840"/>
            <a:chExt cx="1041480" cy="608760"/>
          </a:xfrm>
        </p:grpSpPr>
        <p:sp>
          <p:nvSpPr>
            <p:cNvPr id="475" name="Line 11"/>
            <p:cNvSpPr/>
            <p:nvPr/>
          </p:nvSpPr>
          <p:spPr>
            <a:xfrm>
              <a:off x="1728720" y="3966840"/>
              <a:ext cx="1041480" cy="38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12"/>
            <p:cNvSpPr/>
            <p:nvPr/>
          </p:nvSpPr>
          <p:spPr>
            <a:xfrm rot="900000">
              <a:off x="1937520" y="3868560"/>
              <a:ext cx="556200" cy="48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7" name="Group 13"/>
          <p:cNvGrpSpPr/>
          <p:nvPr/>
        </p:nvGrpSpPr>
        <p:grpSpPr>
          <a:xfrm>
            <a:off x="196560" y="549360"/>
            <a:ext cx="1603440" cy="3606840"/>
            <a:chOff x="196560" y="549360"/>
            <a:chExt cx="1603440" cy="3606840"/>
          </a:xfrm>
        </p:grpSpPr>
        <p:sp>
          <p:nvSpPr>
            <p:cNvPr id="478" name="Text Box 14"/>
            <p:cNvSpPr/>
            <p:nvPr/>
          </p:nvSpPr>
          <p:spPr>
            <a:xfrm>
              <a:off x="196560" y="549360"/>
              <a:ext cx="151416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5"/>
            <p:cNvSpPr/>
            <p:nvPr/>
          </p:nvSpPr>
          <p:spPr>
            <a:xfrm>
              <a:off x="791280" y="2564280"/>
              <a:ext cx="144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6"/>
            <p:cNvSpPr/>
            <p:nvPr/>
          </p:nvSpPr>
          <p:spPr>
            <a:xfrm>
              <a:off x="197640" y="378792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17"/>
            <p:cNvSpPr/>
            <p:nvPr/>
          </p:nvSpPr>
          <p:spPr>
            <a:xfrm>
              <a:off x="278640" y="234252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18"/>
            <p:cNvSpPr/>
            <p:nvPr/>
          </p:nvSpPr>
          <p:spPr>
            <a:xfrm>
              <a:off x="791280" y="1993320"/>
              <a:ext cx="144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19"/>
            <p:cNvSpPr/>
            <p:nvPr/>
          </p:nvSpPr>
          <p:spPr>
            <a:xfrm flipH="1">
              <a:off x="789480" y="1412640"/>
              <a:ext cx="363240" cy="2883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20"/>
            <p:cNvSpPr/>
            <p:nvPr/>
          </p:nvSpPr>
          <p:spPr>
            <a:xfrm>
              <a:off x="1222920" y="1053720"/>
              <a:ext cx="1080" cy="3585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21"/>
            <p:cNvSpPr/>
            <p:nvPr/>
          </p:nvSpPr>
          <p:spPr>
            <a:xfrm>
              <a:off x="864360" y="206136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G3PD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2"/>
            <p:cNvSpPr/>
            <p:nvPr/>
          </p:nvSpPr>
          <p:spPr>
            <a:xfrm>
              <a:off x="791280" y="3211920"/>
              <a:ext cx="144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23"/>
            <p:cNvSpPr/>
            <p:nvPr/>
          </p:nvSpPr>
          <p:spPr>
            <a:xfrm>
              <a:off x="1296000" y="1414080"/>
              <a:ext cx="215280" cy="2869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24"/>
            <p:cNvSpPr/>
            <p:nvPr/>
          </p:nvSpPr>
          <p:spPr>
            <a:xfrm>
              <a:off x="936000" y="1843920"/>
              <a:ext cx="360000" cy="14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25"/>
            <p:cNvSpPr/>
            <p:nvPr/>
          </p:nvSpPr>
          <p:spPr>
            <a:xfrm>
              <a:off x="1296360" y="170100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26"/>
            <p:cNvSpPr/>
            <p:nvPr/>
          </p:nvSpPr>
          <p:spPr>
            <a:xfrm>
              <a:off x="430560" y="170100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3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Rectangle 27"/>
          <p:cNvSpPr/>
          <p:nvPr/>
        </p:nvSpPr>
        <p:spPr>
          <a:xfrm>
            <a:off x="3564000" y="2421000"/>
            <a:ext cx="2232000" cy="863640"/>
          </a:xfrm>
          <a:prstGeom prst="rect">
            <a:avLst/>
          </a:prstGeom>
          <a:solidFill>
            <a:srgbClr val="ff99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28"/>
          <p:cNvSpPr/>
          <p:nvPr/>
        </p:nvSpPr>
        <p:spPr>
          <a:xfrm>
            <a:off x="4500720" y="4149720"/>
            <a:ext cx="2519280" cy="719280"/>
          </a:xfrm>
          <a:prstGeom prst="rect">
            <a:avLst/>
          </a:prstGeom>
          <a:solidFill>
            <a:srgbClr val="00ff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29"/>
          <p:cNvSpPr/>
          <p:nvPr/>
        </p:nvSpPr>
        <p:spPr>
          <a:xfrm>
            <a:off x="5364000" y="3860640"/>
            <a:ext cx="503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30"/>
          <p:cNvSpPr/>
          <p:nvPr/>
        </p:nvSpPr>
        <p:spPr>
          <a:xfrm>
            <a:off x="3276720" y="3860640"/>
            <a:ext cx="71892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Oval 31"/>
          <p:cNvSpPr/>
          <p:nvPr/>
        </p:nvSpPr>
        <p:spPr>
          <a:xfrm>
            <a:off x="3276720" y="5084640"/>
            <a:ext cx="718920" cy="432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3" dur="1000" fill="hold"/>
                                        <p:tgtEl>
                                          <p:spTgt spid="4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1979640" y="620640"/>
            <a:ext cx="6983280" cy="5543280"/>
            <a:chOff x="1979640" y="620640"/>
            <a:chExt cx="6983280" cy="5543280"/>
          </a:xfrm>
        </p:grpSpPr>
        <p:pic>
          <p:nvPicPr>
            <p:cNvPr id="497" name="Picture 3" descr=""/>
            <p:cNvPicPr/>
            <p:nvPr/>
          </p:nvPicPr>
          <p:blipFill>
            <a:blip r:embed="rId1">
              <a:grayscl/>
            </a:blip>
            <a:srcRect l="6907" t="0" r="7357" b="37399"/>
            <a:stretch/>
          </p:blipFill>
          <p:spPr>
            <a:xfrm>
              <a:off x="1979640" y="663120"/>
              <a:ext cx="698328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4"/>
            <p:cNvSpPr/>
            <p:nvPr/>
          </p:nvSpPr>
          <p:spPr>
            <a:xfrm>
              <a:off x="2014200" y="620640"/>
              <a:ext cx="400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anzadera del malato-asparta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9" name="Group 5"/>
          <p:cNvGrpSpPr/>
          <p:nvPr/>
        </p:nvGrpSpPr>
        <p:grpSpPr>
          <a:xfrm>
            <a:off x="302400" y="1805040"/>
            <a:ext cx="1603440" cy="3606840"/>
            <a:chOff x="302400" y="1805040"/>
            <a:chExt cx="1603440" cy="3606840"/>
          </a:xfrm>
        </p:grpSpPr>
        <p:sp>
          <p:nvSpPr>
            <p:cNvPr id="500" name="Text Box 6"/>
            <p:cNvSpPr/>
            <p:nvPr/>
          </p:nvSpPr>
          <p:spPr>
            <a:xfrm>
              <a:off x="302400" y="1805040"/>
              <a:ext cx="151416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7"/>
            <p:cNvSpPr/>
            <p:nvPr/>
          </p:nvSpPr>
          <p:spPr>
            <a:xfrm>
              <a:off x="897840" y="3819960"/>
              <a:ext cx="108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8"/>
            <p:cNvSpPr/>
            <p:nvPr/>
          </p:nvSpPr>
          <p:spPr>
            <a:xfrm>
              <a:off x="303840" y="50436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9"/>
            <p:cNvSpPr/>
            <p:nvPr/>
          </p:nvSpPr>
          <p:spPr>
            <a:xfrm>
              <a:off x="384840" y="35982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897840" y="3249000"/>
              <a:ext cx="108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 flipH="1">
              <a:off x="896040" y="2668320"/>
              <a:ext cx="362880" cy="2883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1328760" y="2309400"/>
              <a:ext cx="1440" cy="3585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13"/>
            <p:cNvSpPr/>
            <p:nvPr/>
          </p:nvSpPr>
          <p:spPr>
            <a:xfrm>
              <a:off x="970200" y="331704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G3PD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>
              <a:off x="897840" y="4467600"/>
              <a:ext cx="108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15"/>
            <p:cNvSpPr/>
            <p:nvPr/>
          </p:nvSpPr>
          <p:spPr>
            <a:xfrm>
              <a:off x="1401840" y="2669760"/>
              <a:ext cx="215640" cy="2869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6"/>
            <p:cNvSpPr/>
            <p:nvPr/>
          </p:nvSpPr>
          <p:spPr>
            <a:xfrm>
              <a:off x="1041840" y="3099600"/>
              <a:ext cx="359640" cy="14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17"/>
            <p:cNvSpPr/>
            <p:nvPr/>
          </p:nvSpPr>
          <p:spPr>
            <a:xfrm>
              <a:off x="1402200" y="29566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18"/>
            <p:cNvSpPr/>
            <p:nvPr/>
          </p:nvSpPr>
          <p:spPr>
            <a:xfrm>
              <a:off x="536760" y="295668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3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3" name="Group 19"/>
          <p:cNvGrpSpPr/>
          <p:nvPr/>
        </p:nvGrpSpPr>
        <p:grpSpPr>
          <a:xfrm>
            <a:off x="1835280" y="3357720"/>
            <a:ext cx="1582200" cy="287280"/>
            <a:chOff x="1835280" y="3357720"/>
            <a:chExt cx="1582200" cy="287280"/>
          </a:xfrm>
        </p:grpSpPr>
        <p:sp>
          <p:nvSpPr>
            <p:cNvPr id="514" name="Rectangle 20"/>
            <p:cNvSpPr/>
            <p:nvPr/>
          </p:nvSpPr>
          <p:spPr>
            <a:xfrm>
              <a:off x="2410560" y="3357720"/>
              <a:ext cx="1006920" cy="287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>
              <a:off x="1835280" y="3499560"/>
              <a:ext cx="504000" cy="1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Oval 22"/>
          <p:cNvSpPr/>
          <p:nvPr/>
        </p:nvSpPr>
        <p:spPr>
          <a:xfrm>
            <a:off x="2771640" y="2924280"/>
            <a:ext cx="648000" cy="360360"/>
          </a:xfrm>
          <a:prstGeom prst="ellipse">
            <a:avLst/>
          </a:prstGeom>
          <a:solidFill>
            <a:srgbClr val="ffcc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2771640" y="2492280"/>
            <a:ext cx="576360" cy="289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Line 24"/>
          <p:cNvSpPr/>
          <p:nvPr/>
        </p:nvSpPr>
        <p:spPr>
          <a:xfrm flipH="1">
            <a:off x="1834920" y="2205000"/>
            <a:ext cx="866520" cy="1152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Oval 25"/>
          <p:cNvSpPr/>
          <p:nvPr/>
        </p:nvSpPr>
        <p:spPr>
          <a:xfrm>
            <a:off x="3348000" y="2205000"/>
            <a:ext cx="647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Oval 26"/>
          <p:cNvSpPr/>
          <p:nvPr/>
        </p:nvSpPr>
        <p:spPr>
          <a:xfrm>
            <a:off x="6300720" y="2205000"/>
            <a:ext cx="647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27"/>
          <p:cNvSpPr/>
          <p:nvPr/>
        </p:nvSpPr>
        <p:spPr>
          <a:xfrm>
            <a:off x="4067280" y="2349360"/>
            <a:ext cx="2160360" cy="18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28"/>
          <p:cNvSpPr/>
          <p:nvPr/>
        </p:nvSpPr>
        <p:spPr>
          <a:xfrm>
            <a:off x="6877080" y="2852640"/>
            <a:ext cx="647640" cy="360360"/>
          </a:xfrm>
          <a:prstGeom prst="ellipse">
            <a:avLst/>
          </a:prstGeom>
          <a:solidFill>
            <a:srgbClr val="00ff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875640" y="2492280"/>
            <a:ext cx="576000" cy="289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6948360" y="3284640"/>
            <a:ext cx="576360" cy="431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31"/>
          <p:cNvSpPr/>
          <p:nvPr/>
        </p:nvSpPr>
        <p:spPr>
          <a:xfrm>
            <a:off x="8604360" y="3068640"/>
            <a:ext cx="395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6" name="Group 32"/>
          <p:cNvGrpSpPr/>
          <p:nvPr/>
        </p:nvGrpSpPr>
        <p:grpSpPr>
          <a:xfrm>
            <a:off x="4932360" y="2205000"/>
            <a:ext cx="501480" cy="717120"/>
            <a:chOff x="4932360" y="2205000"/>
            <a:chExt cx="501480" cy="717120"/>
          </a:xfrm>
        </p:grpSpPr>
        <p:sp>
          <p:nvSpPr>
            <p:cNvPr id="527" name="Oval 33"/>
            <p:cNvSpPr/>
            <p:nvPr/>
          </p:nvSpPr>
          <p:spPr>
            <a:xfrm>
              <a:off x="4932360" y="2205000"/>
              <a:ext cx="501480" cy="43056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34"/>
            <p:cNvSpPr/>
            <p:nvPr/>
          </p:nvSpPr>
          <p:spPr>
            <a:xfrm>
              <a:off x="4932360" y="2564280"/>
              <a:ext cx="501480" cy="3578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9" name="Group 35"/>
          <p:cNvGrpSpPr/>
          <p:nvPr/>
        </p:nvGrpSpPr>
        <p:grpSpPr>
          <a:xfrm>
            <a:off x="5003640" y="4870440"/>
            <a:ext cx="501840" cy="717120"/>
            <a:chOff x="5003640" y="4870440"/>
            <a:chExt cx="501840" cy="717120"/>
          </a:xfrm>
        </p:grpSpPr>
        <p:sp>
          <p:nvSpPr>
            <p:cNvPr id="530" name="Oval 36"/>
            <p:cNvSpPr/>
            <p:nvPr/>
          </p:nvSpPr>
          <p:spPr>
            <a:xfrm>
              <a:off x="5003640" y="4870440"/>
              <a:ext cx="501840" cy="4305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37"/>
            <p:cNvSpPr/>
            <p:nvPr/>
          </p:nvSpPr>
          <p:spPr>
            <a:xfrm>
              <a:off x="5003640" y="5229720"/>
              <a:ext cx="501840" cy="3578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4" dur="2000" fill="hold"/>
                                        <p:tgtEl>
                                          <p:spTgt spid="5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rcRect l="0" t="10438" r="20668" b="0"/>
          <a:stretch/>
        </p:blipFill>
        <p:spPr>
          <a:xfrm>
            <a:off x="55440" y="189000"/>
            <a:ext cx="5092920" cy="666900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3"/>
          <p:cNvSpPr/>
          <p:nvPr/>
        </p:nvSpPr>
        <p:spPr>
          <a:xfrm>
            <a:off x="5076720" y="157320"/>
            <a:ext cx="39243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¿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u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nta energía es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contenida en un mol de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glucosa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que es degradada hasta CO</a:t>
            </a:r>
            <a:r>
              <a:rPr b="1" lang="es-E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y H</a:t>
            </a:r>
            <a:r>
              <a:rPr b="1" lang="es-E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O en condiciones de aerobios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4" name="Group 4"/>
          <p:cNvGrpSpPr/>
          <p:nvPr/>
        </p:nvGrpSpPr>
        <p:grpSpPr>
          <a:xfrm>
            <a:off x="4932360" y="1844640"/>
            <a:ext cx="2952360" cy="243720"/>
            <a:chOff x="4932360" y="1844640"/>
            <a:chExt cx="2952360" cy="243720"/>
          </a:xfrm>
        </p:grpSpPr>
        <p:sp>
          <p:nvSpPr>
            <p:cNvPr id="535" name="Line 5"/>
            <p:cNvSpPr/>
            <p:nvPr/>
          </p:nvSpPr>
          <p:spPr>
            <a:xfrm>
              <a:off x="4932360" y="1987920"/>
              <a:ext cx="718200" cy="14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5742360" y="1844640"/>
              <a:ext cx="755280" cy="243720"/>
            </a:xfrm>
            <a:prstGeom prst="rect">
              <a:avLst/>
            </a:pr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 NAD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7"/>
            <p:cNvSpPr/>
            <p:nvPr/>
          </p:nvSpPr>
          <p:spPr>
            <a:xfrm>
              <a:off x="6585840" y="1987920"/>
              <a:ext cx="647280" cy="14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7309440" y="18446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6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Group 9"/>
          <p:cNvGrpSpPr/>
          <p:nvPr/>
        </p:nvGrpSpPr>
        <p:grpSpPr>
          <a:xfrm>
            <a:off x="4967280" y="2644920"/>
            <a:ext cx="1614240" cy="277200"/>
            <a:chOff x="4967280" y="2644920"/>
            <a:chExt cx="1614240" cy="277200"/>
          </a:xfrm>
        </p:grpSpPr>
        <p:sp>
          <p:nvSpPr>
            <p:cNvPr id="540" name="Line 10"/>
            <p:cNvSpPr/>
            <p:nvPr/>
          </p:nvSpPr>
          <p:spPr>
            <a:xfrm>
              <a:off x="4967280" y="2788200"/>
              <a:ext cx="71856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11"/>
            <p:cNvSpPr/>
            <p:nvPr/>
          </p:nvSpPr>
          <p:spPr>
            <a:xfrm>
              <a:off x="5783760" y="2644920"/>
              <a:ext cx="797760" cy="277200"/>
            </a:xfrm>
            <a:prstGeom prst="rect">
              <a:avLst/>
            </a:pr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 FAD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Group 12"/>
          <p:cNvGrpSpPr/>
          <p:nvPr/>
        </p:nvGrpSpPr>
        <p:grpSpPr>
          <a:xfrm>
            <a:off x="6622920" y="2644920"/>
            <a:ext cx="1297080" cy="243720"/>
            <a:chOff x="6622920" y="2644920"/>
            <a:chExt cx="1297080" cy="243720"/>
          </a:xfrm>
        </p:grpSpPr>
        <p:sp>
          <p:nvSpPr>
            <p:cNvPr id="543" name="Line 13"/>
            <p:cNvSpPr/>
            <p:nvPr/>
          </p:nvSpPr>
          <p:spPr>
            <a:xfrm>
              <a:off x="6622920" y="2788200"/>
              <a:ext cx="64620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4"/>
            <p:cNvSpPr/>
            <p:nvPr/>
          </p:nvSpPr>
          <p:spPr>
            <a:xfrm>
              <a:off x="7344720" y="26449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4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Group 15"/>
          <p:cNvGrpSpPr/>
          <p:nvPr/>
        </p:nvGrpSpPr>
        <p:grpSpPr>
          <a:xfrm>
            <a:off x="3851280" y="3429000"/>
            <a:ext cx="4068360" cy="243720"/>
            <a:chOff x="3851280" y="3429000"/>
            <a:chExt cx="4068360" cy="243720"/>
          </a:xfrm>
        </p:grpSpPr>
        <p:sp>
          <p:nvSpPr>
            <p:cNvPr id="546" name="Line 16"/>
            <p:cNvSpPr/>
            <p:nvPr/>
          </p:nvSpPr>
          <p:spPr>
            <a:xfrm>
              <a:off x="3851280" y="3572280"/>
              <a:ext cx="3381840" cy="14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Text Box 17"/>
            <p:cNvSpPr/>
            <p:nvPr/>
          </p:nvSpPr>
          <p:spPr>
            <a:xfrm>
              <a:off x="7344360" y="342900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6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Group 18"/>
          <p:cNvGrpSpPr/>
          <p:nvPr/>
        </p:nvGrpSpPr>
        <p:grpSpPr>
          <a:xfrm>
            <a:off x="3780000" y="4724280"/>
            <a:ext cx="4069800" cy="243720"/>
            <a:chOff x="3780000" y="4724280"/>
            <a:chExt cx="4069800" cy="243720"/>
          </a:xfrm>
        </p:grpSpPr>
        <p:sp>
          <p:nvSpPr>
            <p:cNvPr id="549" name="Line 19"/>
            <p:cNvSpPr/>
            <p:nvPr/>
          </p:nvSpPr>
          <p:spPr>
            <a:xfrm>
              <a:off x="3780000" y="4867920"/>
              <a:ext cx="338148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Text Box 20"/>
            <p:cNvSpPr/>
            <p:nvPr/>
          </p:nvSpPr>
          <p:spPr>
            <a:xfrm>
              <a:off x="7161840" y="472428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8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Group 21"/>
          <p:cNvGrpSpPr/>
          <p:nvPr/>
        </p:nvGrpSpPr>
        <p:grpSpPr>
          <a:xfrm>
            <a:off x="3780000" y="5705640"/>
            <a:ext cx="4068360" cy="243720"/>
            <a:chOff x="3780000" y="5705640"/>
            <a:chExt cx="4068360" cy="243720"/>
          </a:xfrm>
        </p:grpSpPr>
        <p:sp>
          <p:nvSpPr>
            <p:cNvPr id="552" name="Line 22"/>
            <p:cNvSpPr/>
            <p:nvPr/>
          </p:nvSpPr>
          <p:spPr>
            <a:xfrm>
              <a:off x="3780000" y="5848920"/>
              <a:ext cx="338148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7273080" y="57056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4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4" name="Group 24"/>
          <p:cNvGrpSpPr/>
          <p:nvPr/>
        </p:nvGrpSpPr>
        <p:grpSpPr>
          <a:xfrm>
            <a:off x="3780000" y="5992920"/>
            <a:ext cx="4068360" cy="243720"/>
            <a:chOff x="3780000" y="5992920"/>
            <a:chExt cx="4068360" cy="243720"/>
          </a:xfrm>
        </p:grpSpPr>
        <p:sp>
          <p:nvSpPr>
            <p:cNvPr id="555" name="Line 25"/>
            <p:cNvSpPr/>
            <p:nvPr/>
          </p:nvSpPr>
          <p:spPr>
            <a:xfrm>
              <a:off x="3780000" y="6136200"/>
              <a:ext cx="338148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Text Box 26"/>
            <p:cNvSpPr/>
            <p:nvPr/>
          </p:nvSpPr>
          <p:spPr>
            <a:xfrm>
              <a:off x="7273080" y="59929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7" name="Group 27"/>
          <p:cNvGrpSpPr/>
          <p:nvPr/>
        </p:nvGrpSpPr>
        <p:grpSpPr>
          <a:xfrm>
            <a:off x="3780000" y="6165720"/>
            <a:ext cx="4068360" cy="243720"/>
            <a:chOff x="3780000" y="6165720"/>
            <a:chExt cx="4068360" cy="243720"/>
          </a:xfrm>
        </p:grpSpPr>
        <p:sp>
          <p:nvSpPr>
            <p:cNvPr id="558" name="Line 28"/>
            <p:cNvSpPr/>
            <p:nvPr/>
          </p:nvSpPr>
          <p:spPr>
            <a:xfrm>
              <a:off x="3780000" y="6309360"/>
              <a:ext cx="338148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29"/>
            <p:cNvSpPr/>
            <p:nvPr/>
          </p:nvSpPr>
          <p:spPr>
            <a:xfrm>
              <a:off x="7273080" y="61657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Text Box 30"/>
          <p:cNvSpPr/>
          <p:nvPr/>
        </p:nvSpPr>
        <p:spPr>
          <a:xfrm>
            <a:off x="2842920" y="2492280"/>
            <a:ext cx="156240" cy="305280"/>
          </a:xfrm>
          <a:prstGeom prst="rect">
            <a:avLst/>
          </a:prstGeom>
          <a:solidFill>
            <a:srgbClr val="f6e2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31"/>
          <p:cNvSpPr/>
          <p:nvPr/>
        </p:nvSpPr>
        <p:spPr>
          <a:xfrm>
            <a:off x="6071760" y="22604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2"/>
          <p:cNvSpPr/>
          <p:nvPr/>
        </p:nvSpPr>
        <p:spPr>
          <a:xfrm>
            <a:off x="7511760" y="22604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33"/>
          <p:cNvGrpSpPr/>
          <p:nvPr/>
        </p:nvGrpSpPr>
        <p:grpSpPr>
          <a:xfrm>
            <a:off x="6947640" y="6453360"/>
            <a:ext cx="1367640" cy="274680"/>
            <a:chOff x="6947640" y="6453360"/>
            <a:chExt cx="1367640" cy="274680"/>
          </a:xfrm>
        </p:grpSpPr>
        <p:sp>
          <p:nvSpPr>
            <p:cNvPr id="564" name="Text Box 34"/>
            <p:cNvSpPr/>
            <p:nvPr/>
          </p:nvSpPr>
          <p:spPr>
            <a:xfrm>
              <a:off x="6947640" y="6453360"/>
              <a:ext cx="129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36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ó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38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35"/>
            <p:cNvSpPr/>
            <p:nvPr/>
          </p:nvSpPr>
          <p:spPr>
            <a:xfrm>
              <a:off x="6948360" y="6453360"/>
              <a:ext cx="1366920" cy="108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3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181920" y="6284880"/>
            <a:ext cx="213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fecto Past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1"/>
          <a:stretch/>
        </p:blipFill>
        <p:spPr>
          <a:xfrm>
            <a:off x="655560" y="836640"/>
            <a:ext cx="3102120" cy="367488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4"/>
          <p:cNvSpPr/>
          <p:nvPr/>
        </p:nvSpPr>
        <p:spPr>
          <a:xfrm>
            <a:off x="663480" y="4529160"/>
            <a:ext cx="311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ouis Pasteur (1822-1895), químico francés cuyos descubrimientos tuvieron enorme importancia en diversos campos de las ciencias natur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5" descr=""/>
          <p:cNvPicPr/>
          <p:nvPr/>
        </p:nvPicPr>
        <p:blipFill>
          <a:blip r:embed="rId2"/>
          <a:stretch/>
        </p:blipFill>
        <p:spPr>
          <a:xfrm>
            <a:off x="6991200" y="549360"/>
            <a:ext cx="1440000" cy="936720"/>
          </a:xfrm>
          <a:prstGeom prst="rect">
            <a:avLst/>
          </a:prstGeom>
          <a:ln w="0">
            <a:noFill/>
          </a:ln>
        </p:spPr>
      </p:pic>
      <p:grpSp>
        <p:nvGrpSpPr>
          <p:cNvPr id="570" name="Group 6"/>
          <p:cNvGrpSpPr/>
          <p:nvPr/>
        </p:nvGrpSpPr>
        <p:grpSpPr>
          <a:xfrm>
            <a:off x="4111920" y="549360"/>
            <a:ext cx="2586960" cy="1438200"/>
            <a:chOff x="4111920" y="549360"/>
            <a:chExt cx="2586960" cy="1438200"/>
          </a:xfrm>
        </p:grpSpPr>
        <p:pic>
          <p:nvPicPr>
            <p:cNvPr id="571" name="Picture 7" descr=""/>
            <p:cNvPicPr/>
            <p:nvPr/>
          </p:nvPicPr>
          <p:blipFill>
            <a:blip r:embed="rId3"/>
            <a:stretch/>
          </p:blipFill>
          <p:spPr>
            <a:xfrm>
              <a:off x="5691600" y="549360"/>
              <a:ext cx="1007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Text Box 8"/>
            <p:cNvSpPr/>
            <p:nvPr/>
          </p:nvSpPr>
          <p:spPr>
            <a:xfrm>
              <a:off x="4111920" y="1483200"/>
              <a:ext cx="15872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dio de cultiv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Glucos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AutoShape 9"/>
          <p:cNvSpPr/>
          <p:nvPr/>
        </p:nvSpPr>
        <p:spPr>
          <a:xfrm flipH="1" rot="21480000">
            <a:off x="6202080" y="188640"/>
            <a:ext cx="938160" cy="571320"/>
          </a:xfrm>
          <a:custGeom>
            <a:avLst/>
            <a:gdLst>
              <a:gd name="textAreaLeft" fmla="*/ 12960 w 938160"/>
              <a:gd name="textAreaRight" fmla="*/ 938520 w 938160"/>
              <a:gd name="textAreaTop" fmla="*/ 0 h 571320"/>
              <a:gd name="textAreaBottom" fmla="*/ 301320 h 571320"/>
            </a:gdLst>
            <a:ahLst/>
            <a:rect l="textAreaLeft" t="textAreaTop" r="textAreaRight" b="textAreaBottom"/>
            <a:pathLst>
              <a:path stroke="0" w="21600" h="21600">
                <a:moveTo>
                  <a:pt x="275" y="8376"/>
                </a:moveTo>
                <a:cubicBezTo>
                  <a:pt x="1404" y="3473"/>
                  <a:pt x="576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991"/>
                  <a:pt x="21594" y="11182"/>
                  <a:pt x="21584" y="11374"/>
                </a:cubicBezTo>
                <a:lnTo>
                  <a:pt x="10800" y="10800"/>
                </a:lnTo>
                <a:lnTo>
                  <a:pt x="275" y="8376"/>
                </a:lnTo>
                <a:close/>
              </a:path>
              <a:path fill="none" w="21600" h="21600">
                <a:moveTo>
                  <a:pt x="275" y="8376"/>
                </a:moveTo>
                <a:cubicBezTo>
                  <a:pt x="1404" y="3473"/>
                  <a:pt x="576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991"/>
                  <a:pt x="21594" y="11182"/>
                  <a:pt x="21584" y="11374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4" name="Group 10"/>
          <p:cNvGrpSpPr/>
          <p:nvPr/>
        </p:nvGrpSpPr>
        <p:grpSpPr>
          <a:xfrm>
            <a:off x="5187960" y="4365720"/>
            <a:ext cx="2015640" cy="1077840"/>
            <a:chOff x="5187960" y="4365720"/>
            <a:chExt cx="2015640" cy="1077840"/>
          </a:xfrm>
        </p:grpSpPr>
        <p:sp>
          <p:nvSpPr>
            <p:cNvPr id="575" name="Text Box 11"/>
            <p:cNvSpPr/>
            <p:nvPr/>
          </p:nvSpPr>
          <p:spPr>
            <a:xfrm>
              <a:off x="5836680" y="4516200"/>
              <a:ext cx="76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24 h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2"/>
            <p:cNvSpPr/>
            <p:nvPr/>
          </p:nvSpPr>
          <p:spPr>
            <a:xfrm>
              <a:off x="5187960" y="4508280"/>
              <a:ext cx="1080" cy="934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3"/>
            <p:cNvSpPr/>
            <p:nvPr/>
          </p:nvSpPr>
          <p:spPr>
            <a:xfrm>
              <a:off x="7202520" y="4365720"/>
              <a:ext cx="1080" cy="1077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8" name="Group 14"/>
          <p:cNvGrpSpPr/>
          <p:nvPr/>
        </p:nvGrpSpPr>
        <p:grpSpPr>
          <a:xfrm>
            <a:off x="4812840" y="5632560"/>
            <a:ext cx="979200" cy="387000"/>
            <a:chOff x="4812840" y="5632560"/>
            <a:chExt cx="979200" cy="387000"/>
          </a:xfrm>
        </p:grpSpPr>
        <p:sp>
          <p:nvSpPr>
            <p:cNvPr id="579" name="Line 15"/>
            <p:cNvSpPr/>
            <p:nvPr/>
          </p:nvSpPr>
          <p:spPr>
            <a:xfrm>
              <a:off x="4828680" y="5660640"/>
              <a:ext cx="1440" cy="35892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6"/>
            <p:cNvSpPr/>
            <p:nvPr/>
          </p:nvSpPr>
          <p:spPr>
            <a:xfrm>
              <a:off x="4812840" y="563256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Group 17"/>
          <p:cNvGrpSpPr/>
          <p:nvPr/>
        </p:nvGrpSpPr>
        <p:grpSpPr>
          <a:xfrm>
            <a:off x="6700680" y="5661000"/>
            <a:ext cx="1056240" cy="358920"/>
            <a:chOff x="6700680" y="5661000"/>
            <a:chExt cx="1056240" cy="358920"/>
          </a:xfrm>
        </p:grpSpPr>
        <p:sp>
          <p:nvSpPr>
            <p:cNvPr id="582" name="Text Box 18"/>
            <p:cNvSpPr/>
            <p:nvPr/>
          </p:nvSpPr>
          <p:spPr>
            <a:xfrm>
              <a:off x="6972840" y="56610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19"/>
            <p:cNvSpPr/>
            <p:nvPr/>
          </p:nvSpPr>
          <p:spPr>
            <a:xfrm>
              <a:off x="6700680" y="5661000"/>
              <a:ext cx="1440" cy="3589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20"/>
            <p:cNvSpPr/>
            <p:nvPr/>
          </p:nvSpPr>
          <p:spPr>
            <a:xfrm>
              <a:off x="6845040" y="5661000"/>
              <a:ext cx="1080" cy="3589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21"/>
            <p:cNvSpPr/>
            <p:nvPr/>
          </p:nvSpPr>
          <p:spPr>
            <a:xfrm>
              <a:off x="6987600" y="5661000"/>
              <a:ext cx="1080" cy="3589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" name="Group 22"/>
          <p:cNvGrpSpPr/>
          <p:nvPr/>
        </p:nvGrpSpPr>
        <p:grpSpPr>
          <a:xfrm>
            <a:off x="4614120" y="2060640"/>
            <a:ext cx="1361880" cy="2382840"/>
            <a:chOff x="4614120" y="2060640"/>
            <a:chExt cx="1361880" cy="2382840"/>
          </a:xfrm>
        </p:grpSpPr>
        <p:pic>
          <p:nvPicPr>
            <p:cNvPr id="587" name="Picture 23" descr=""/>
            <p:cNvPicPr/>
            <p:nvPr/>
          </p:nvPicPr>
          <p:blipFill>
            <a:blip r:embed="rId4"/>
            <a:stretch/>
          </p:blipFill>
          <p:spPr>
            <a:xfrm>
              <a:off x="4684320" y="2349000"/>
              <a:ext cx="1006560" cy="14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Line 24"/>
            <p:cNvSpPr/>
            <p:nvPr/>
          </p:nvSpPr>
          <p:spPr>
            <a:xfrm flipH="1">
              <a:off x="5473800" y="2060640"/>
              <a:ext cx="434160" cy="79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AutoShape 25"/>
            <p:cNvSpPr/>
            <p:nvPr/>
          </p:nvSpPr>
          <p:spPr>
            <a:xfrm>
              <a:off x="5044320" y="2276280"/>
              <a:ext cx="288360" cy="215280"/>
            </a:xfrm>
            <a:custGeom>
              <a:avLst/>
              <a:gdLst>
                <a:gd name="textAreaLeft" fmla="*/ 60120 w 288360"/>
                <a:gd name="textAreaRight" fmla="*/ 228240 w 288360"/>
                <a:gd name="textAreaTop" fmla="*/ 44280 h 215280"/>
                <a:gd name="textAreaBottom" fmla="*/ 17100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AutoShape 26"/>
            <p:cNvSpPr/>
            <p:nvPr/>
          </p:nvSpPr>
          <p:spPr>
            <a:xfrm flipH="1">
              <a:off x="4827960" y="3859200"/>
              <a:ext cx="719640" cy="215640"/>
            </a:xfrm>
            <a:custGeom>
              <a:avLst/>
              <a:gdLst>
                <a:gd name="textAreaLeft" fmla="*/ -360 w 719640"/>
                <a:gd name="textAreaRight" fmla="*/ 719640 w 7196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6450" y="20004"/>
                  </a:moveTo>
                  <a:cubicBezTo>
                    <a:pt x="14750" y="21047"/>
                    <a:pt x="12794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689"/>
                    <a:pt x="21490" y="12574"/>
                    <a:pt x="21273" y="13437"/>
                  </a:cubicBezTo>
                  <a:lnTo>
                    <a:pt x="10800" y="10800"/>
                  </a:lnTo>
                  <a:lnTo>
                    <a:pt x="16450" y="20004"/>
                  </a:lnTo>
                  <a:close/>
                </a:path>
                <a:path fill="none" w="21600" h="21600">
                  <a:moveTo>
                    <a:pt x="16450" y="20004"/>
                  </a:moveTo>
                  <a:cubicBezTo>
                    <a:pt x="14750" y="21047"/>
                    <a:pt x="12794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689"/>
                    <a:pt x="21490" y="12574"/>
                    <a:pt x="21273" y="13437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Text Box 27"/>
            <p:cNvSpPr/>
            <p:nvPr/>
          </p:nvSpPr>
          <p:spPr>
            <a:xfrm>
              <a:off x="4614120" y="407520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Group 28"/>
          <p:cNvGrpSpPr/>
          <p:nvPr/>
        </p:nvGrpSpPr>
        <p:grpSpPr>
          <a:xfrm>
            <a:off x="6341400" y="2060640"/>
            <a:ext cx="1628640" cy="2239920"/>
            <a:chOff x="6341400" y="2060640"/>
            <a:chExt cx="1628640" cy="2239920"/>
          </a:xfrm>
        </p:grpSpPr>
        <p:pic>
          <p:nvPicPr>
            <p:cNvPr id="593" name="Picture 29" descr=""/>
            <p:cNvPicPr/>
            <p:nvPr/>
          </p:nvPicPr>
          <p:blipFill>
            <a:blip r:embed="rId5"/>
            <a:stretch/>
          </p:blipFill>
          <p:spPr>
            <a:xfrm>
              <a:off x="6629040" y="2349000"/>
              <a:ext cx="1006920" cy="14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Line 30"/>
            <p:cNvSpPr/>
            <p:nvPr/>
          </p:nvSpPr>
          <p:spPr>
            <a:xfrm>
              <a:off x="6413040" y="2060640"/>
              <a:ext cx="431280" cy="79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AutoShape 31"/>
            <p:cNvSpPr/>
            <p:nvPr/>
          </p:nvSpPr>
          <p:spPr>
            <a:xfrm>
              <a:off x="6987600" y="2349000"/>
              <a:ext cx="288360" cy="215640"/>
            </a:xfrm>
            <a:custGeom>
              <a:avLst/>
              <a:gdLst>
                <a:gd name="textAreaLeft" fmla="*/ 60120 w 288360"/>
                <a:gd name="textAreaRight" fmla="*/ 228240 w 288360"/>
                <a:gd name="textAreaTop" fmla="*/ 44280 h 215640"/>
                <a:gd name="textAreaBottom" fmla="*/ 17136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Text Box 32"/>
            <p:cNvSpPr/>
            <p:nvPr/>
          </p:nvSpPr>
          <p:spPr>
            <a:xfrm>
              <a:off x="6341400" y="3932280"/>
              <a:ext cx="16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7" name="Group 33"/>
          <p:cNvGrpSpPr/>
          <p:nvPr/>
        </p:nvGrpSpPr>
        <p:grpSpPr>
          <a:xfrm>
            <a:off x="6700680" y="3213000"/>
            <a:ext cx="1971720" cy="368280"/>
            <a:chOff x="6700680" y="3213000"/>
            <a:chExt cx="1971720" cy="368280"/>
          </a:xfrm>
        </p:grpSpPr>
        <p:sp>
          <p:nvSpPr>
            <p:cNvPr id="598" name="AutoShape 34"/>
            <p:cNvSpPr/>
            <p:nvPr/>
          </p:nvSpPr>
          <p:spPr>
            <a:xfrm flipV="1">
              <a:off x="6700680" y="3283560"/>
              <a:ext cx="862560" cy="216360"/>
            </a:xfrm>
            <a:custGeom>
              <a:avLst/>
              <a:gdLst>
                <a:gd name="textAreaLeft" fmla="*/ 110880 w 862560"/>
                <a:gd name="textAreaRight" fmla="*/ 751680 w 862560"/>
                <a:gd name="textAreaTop" fmla="*/ 28440 h 216360"/>
                <a:gd name="textAreaBottom" fmla="*/ 187920 h 21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0" y="21600"/>
                  </a:lnTo>
                  <a:lnTo>
                    <a:pt x="1966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Text Box 35"/>
            <p:cNvSpPr/>
            <p:nvPr/>
          </p:nvSpPr>
          <p:spPr>
            <a:xfrm>
              <a:off x="7565040" y="321300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asel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5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9" dur="2000" fill="hold"/>
                                        <p:tgtEl>
                                          <p:spTgt spid="5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7"/>
          <p:cNvGrpSpPr/>
          <p:nvPr/>
        </p:nvGrpSpPr>
        <p:grpSpPr>
          <a:xfrm>
            <a:off x="0" y="-27000"/>
            <a:ext cx="9155160" cy="6856560"/>
            <a:chOff x="0" y="-27000"/>
            <a:chExt cx="9155160" cy="6856560"/>
          </a:xfrm>
        </p:grpSpPr>
        <p:grpSp>
          <p:nvGrpSpPr>
            <p:cNvPr id="96" name="Group 1"/>
            <p:cNvGrpSpPr/>
            <p:nvPr/>
          </p:nvGrpSpPr>
          <p:grpSpPr>
            <a:xfrm>
              <a:off x="0" y="-27000"/>
              <a:ext cx="9155160" cy="6856560"/>
              <a:chOff x="0" y="-27000"/>
              <a:chExt cx="9155160" cy="6856560"/>
            </a:xfrm>
          </p:grpSpPr>
          <p:pic>
            <p:nvPicPr>
              <p:cNvPr id="97" name="Picture 2" descr=""/>
              <p:cNvPicPr/>
              <p:nvPr/>
            </p:nvPicPr>
            <p:blipFill>
              <a:blip r:embed="rId1"/>
              <a:srcRect l="0" t="0" r="0" b="5070"/>
              <a:stretch/>
            </p:blipFill>
            <p:spPr>
              <a:xfrm>
                <a:off x="0" y="-27000"/>
                <a:ext cx="9155160" cy="68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 Box 3"/>
              <p:cNvSpPr/>
              <p:nvPr/>
            </p:nvSpPr>
            <p:spPr>
              <a:xfrm>
                <a:off x="8099640" y="188640"/>
                <a:ext cx="1007640" cy="661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Piruvato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descar-boxil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Text Box 4"/>
              <p:cNvSpPr/>
              <p:nvPr/>
            </p:nvSpPr>
            <p:spPr>
              <a:xfrm>
                <a:off x="7521840" y="2539440"/>
                <a:ext cx="1441080" cy="448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Dihidrolipoi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transacetil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Text Box 5"/>
              <p:cNvSpPr/>
              <p:nvPr/>
            </p:nvSpPr>
            <p:spPr>
              <a:xfrm>
                <a:off x="4788360" y="4478760"/>
                <a:ext cx="2087280" cy="235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Lipoil deshidrogen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Text Box 6"/>
              <p:cNvSpPr/>
              <p:nvPr/>
            </p:nvSpPr>
            <p:spPr>
              <a:xfrm>
                <a:off x="3563280" y="379080"/>
                <a:ext cx="1655280" cy="448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Piruvato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descarboxil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Text Box 7"/>
              <p:cNvSpPr/>
              <p:nvPr/>
            </p:nvSpPr>
            <p:spPr>
              <a:xfrm>
                <a:off x="4786920" y="2564640"/>
                <a:ext cx="1441080" cy="448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Dihidrolipoi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transacetil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Text Box 26"/>
            <p:cNvSpPr/>
            <p:nvPr/>
          </p:nvSpPr>
          <p:spPr>
            <a:xfrm>
              <a:off x="1819080" y="4076640"/>
              <a:ext cx="1459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idroxietil-PP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Rectangle 8"/>
          <p:cNvSpPr/>
          <p:nvPr/>
        </p:nvSpPr>
        <p:spPr>
          <a:xfrm>
            <a:off x="5113440" y="6062760"/>
            <a:ext cx="39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200" spc="-1" strike="noStrike">
                <a:solidFill>
                  <a:srgbClr val="990033"/>
                </a:solidFill>
                <a:latin typeface="Arial"/>
              </a:rPr>
              <a:t>El grupo acetilo esta unido al grupo sulfhidrilo del CoA por un enlace tioéster. La hidrólisis del enlace tioéster del acetil-CoA libera 31,5 kJ/mol y es, por lo tanto, un enlace rico en energí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5724360" y="620640"/>
            <a:ext cx="792360" cy="1152720"/>
          </a:xfrm>
          <a:prstGeom prst="ellipse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 flipH="1">
            <a:off x="2502720" y="189000"/>
            <a:ext cx="3597480" cy="1009440"/>
          </a:xfrm>
          <a:custGeom>
            <a:avLst/>
            <a:gdLst>
              <a:gd name="textAreaLeft" fmla="*/ 72360 w 3597480"/>
              <a:gd name="textAreaRight" fmla="*/ 3319560 w 3597480"/>
              <a:gd name="textAreaTop" fmla="*/ 0 h 1009440"/>
              <a:gd name="textAreaBottom" fmla="*/ 504720 h 1009440"/>
            </a:gdLst>
            <a:ahLst/>
            <a:rect l="textAreaLeft" t="textAreaTop" r="textAreaRight" b="textAreaBottom"/>
            <a:pathLst>
              <a:path stroke="0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79" y="0"/>
                  <a:pt x="17906" y="1873"/>
                  <a:pt x="19892" y="4971"/>
                </a:cubicBezTo>
                <a:lnTo>
                  <a:pt x="10800" y="10800"/>
                </a:lnTo>
                <a:lnTo>
                  <a:pt x="408" y="7856"/>
                </a:lnTo>
                <a:close/>
              </a:path>
              <a:path fill="none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79" y="0"/>
                  <a:pt x="17906" y="1873"/>
                  <a:pt x="19892" y="4971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6877080" y="115920"/>
            <a:ext cx="1224000" cy="576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7236000" y="115920"/>
            <a:ext cx="792000" cy="2887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8604360" y="1413000"/>
            <a:ext cx="504720" cy="43164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1835280" y="2347920"/>
            <a:ext cx="1152360" cy="504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 flipH="1" rot="540000">
            <a:off x="2535120" y="2122560"/>
            <a:ext cx="2154240" cy="1730160"/>
          </a:xfrm>
          <a:custGeom>
            <a:avLst/>
            <a:gdLst>
              <a:gd name="textAreaLeft" fmla="*/ 43920 w 2154240"/>
              <a:gd name="textAreaRight" fmla="*/ 1988280 w 2154240"/>
              <a:gd name="textAreaTop" fmla="*/ 0 h 1730160"/>
              <a:gd name="textAreaBottom" fmla="*/ 865080 h 1730160"/>
            </a:gdLst>
            <a:ahLst/>
            <a:rect l="textAreaLeft" t="textAreaTop" r="textAreaRight" b="textAreaBottom"/>
            <a:pathLst>
              <a:path stroke="0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79" y="0"/>
                  <a:pt x="17906" y="1873"/>
                  <a:pt x="19892" y="4971"/>
                </a:cubicBezTo>
                <a:lnTo>
                  <a:pt x="10800" y="10800"/>
                </a:lnTo>
                <a:lnTo>
                  <a:pt x="408" y="7856"/>
                </a:lnTo>
                <a:close/>
              </a:path>
              <a:path fill="none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79" y="0"/>
                  <a:pt x="17906" y="1873"/>
                  <a:pt x="19892" y="4971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6516720" y="2637000"/>
            <a:ext cx="934920" cy="792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7451640" y="3500280"/>
            <a:ext cx="93672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3059280" y="6121440"/>
            <a:ext cx="2017440" cy="692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5291280" y="4941720"/>
            <a:ext cx="504720" cy="4320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6227640" y="5013360"/>
            <a:ext cx="1079640" cy="3589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21"/>
          <p:cNvSpPr/>
          <p:nvPr/>
        </p:nvSpPr>
        <p:spPr>
          <a:xfrm>
            <a:off x="7596360" y="4437000"/>
            <a:ext cx="936360" cy="792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 flipH="1" flipV="1" rot="960000">
            <a:off x="4866840" y="3847320"/>
            <a:ext cx="3071880" cy="422640"/>
          </a:xfrm>
          <a:custGeom>
            <a:avLst/>
            <a:gdLst>
              <a:gd name="textAreaLeft" fmla="*/ 61920 w 3071880"/>
              <a:gd name="textAreaRight" fmla="*/ 2820600 w 3071880"/>
              <a:gd name="textAreaTop" fmla="*/ 360 h 422640"/>
              <a:gd name="textAreaBottom" fmla="*/ 211680 h 422640"/>
            </a:gdLst>
            <a:ahLst/>
            <a:rect l="textAreaLeft" t="textAreaTop" r="textAreaRight" b="textAreaBottom"/>
            <a:pathLst>
              <a:path stroke="0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12" y="0"/>
                  <a:pt x="17785" y="1805"/>
                  <a:pt x="19787" y="4812"/>
                </a:cubicBezTo>
                <a:lnTo>
                  <a:pt x="10800" y="10800"/>
                </a:lnTo>
                <a:lnTo>
                  <a:pt x="408" y="7856"/>
                </a:lnTo>
                <a:close/>
              </a:path>
              <a:path fill="none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12" y="0"/>
                  <a:pt x="17785" y="1805"/>
                  <a:pt x="19787" y="4812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395280" y="595008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24"/>
          <p:cNvSpPr/>
          <p:nvPr/>
        </p:nvSpPr>
        <p:spPr>
          <a:xfrm>
            <a:off x="3203640" y="4365720"/>
            <a:ext cx="936720" cy="792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289960" y="2873520"/>
            <a:ext cx="46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http://www.iubmb-nicholson.org/swf/epet.sw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2113560" y="2917800"/>
            <a:ext cx="48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2d2db9"/>
                </a:solidFill>
                <a:latin typeface="Arial"/>
              </a:rPr>
              <a:t>http://www.iubmb-nicholson.org/pdh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2d2db9"/>
                </a:solidFill>
                <a:latin typeface="Arial"/>
              </a:rPr>
              <a:t>http://www.iubmb-nicholson.org/swf/e1_v7.sw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0" y="27478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95280" y="91440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1280" indent="-341280" algn="just"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DH está regulada por tres mecanismos superpues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buClr>
                <a:srgbClr val="333399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Por regulación alost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é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ic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Es inhibido por sus productos: NADH y Acetil-CoA, y por AT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2)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Por modificación covalente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 (fosforilación-desfosforilación)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3)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Por control hormonal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 (Insulina-Glucago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124360" y="40464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gulación del complejo PD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1"/>
          <p:cNvGrpSpPr/>
          <p:nvPr/>
        </p:nvGrpSpPr>
        <p:grpSpPr>
          <a:xfrm>
            <a:off x="1638360" y="152280"/>
            <a:ext cx="5865840" cy="6551640"/>
            <a:chOff x="1638360" y="152280"/>
            <a:chExt cx="5865840" cy="6551640"/>
          </a:xfrm>
        </p:grpSpPr>
        <p:pic>
          <p:nvPicPr>
            <p:cNvPr id="126" name="Picture 2" descr=""/>
            <p:cNvPicPr/>
            <p:nvPr/>
          </p:nvPicPr>
          <p:blipFill>
            <a:blip r:embed="rId1"/>
            <a:stretch/>
          </p:blipFill>
          <p:spPr>
            <a:xfrm>
              <a:off x="1638360" y="152280"/>
              <a:ext cx="5865840" cy="655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3"/>
            <p:cNvSpPr/>
            <p:nvPr/>
          </p:nvSpPr>
          <p:spPr>
            <a:xfrm>
              <a:off x="2486880" y="40042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Text Box 4"/>
          <p:cNvSpPr/>
          <p:nvPr/>
        </p:nvSpPr>
        <p:spPr>
          <a:xfrm>
            <a:off x="2305440" y="18900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gulación del complejo PD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1765440" y="2492280"/>
            <a:ext cx="2374920" cy="3816360"/>
          </a:xfrm>
          <a:prstGeom prst="ellipse">
            <a:avLst/>
          </a:prstGeom>
          <a:noFill/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2484360" y="1628640"/>
            <a:ext cx="4537080" cy="3168720"/>
          </a:xfrm>
          <a:prstGeom prst="ellipse">
            <a:avLst/>
          </a:prstGeom>
          <a:noFill/>
          <a:ln w="414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627280" y="620640"/>
            <a:ext cx="4249800" cy="295272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2843280" y="3141720"/>
            <a:ext cx="4033800" cy="251928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rcRect l="17924" t="0" r="2015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"/>
          <p:cNvGrpSpPr/>
          <p:nvPr/>
        </p:nvGrpSpPr>
        <p:grpSpPr>
          <a:xfrm>
            <a:off x="628200" y="1052640"/>
            <a:ext cx="2059920" cy="1374840"/>
            <a:chOff x="628200" y="1052640"/>
            <a:chExt cx="2059920" cy="1374840"/>
          </a:xfrm>
        </p:grpSpPr>
        <p:sp>
          <p:nvSpPr>
            <p:cNvPr id="135" name="Text Box 3"/>
            <p:cNvSpPr/>
            <p:nvPr/>
          </p:nvSpPr>
          <p:spPr>
            <a:xfrm>
              <a:off x="685080" y="105264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UCOSA (6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4"/>
            <p:cNvSpPr/>
            <p:nvPr/>
          </p:nvSpPr>
          <p:spPr>
            <a:xfrm>
              <a:off x="1475640" y="1340640"/>
              <a:ext cx="1080" cy="7182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5"/>
            <p:cNvSpPr/>
            <p:nvPr/>
          </p:nvSpPr>
          <p:spPr>
            <a:xfrm>
              <a:off x="628200" y="2059200"/>
              <a:ext cx="20599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IRUVATO (3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6"/>
            <p:cNvSpPr/>
            <p:nvPr/>
          </p:nvSpPr>
          <p:spPr>
            <a:xfrm>
              <a:off x="1476720" y="15566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Text Box 7"/>
          <p:cNvSpPr/>
          <p:nvPr/>
        </p:nvSpPr>
        <p:spPr>
          <a:xfrm>
            <a:off x="4113360" y="1131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95640" y="907920"/>
            <a:ext cx="792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32"/>
          <p:cNvGrpSpPr/>
          <p:nvPr/>
        </p:nvGrpSpPr>
        <p:grpSpPr>
          <a:xfrm>
            <a:off x="4769280" y="3405960"/>
            <a:ext cx="3158640" cy="3091320"/>
            <a:chOff x="4769280" y="3405960"/>
            <a:chExt cx="3158640" cy="3091320"/>
          </a:xfrm>
        </p:grpSpPr>
        <p:grpSp>
          <p:nvGrpSpPr>
            <p:cNvPr id="142" name="Group 13"/>
            <p:cNvGrpSpPr/>
            <p:nvPr/>
          </p:nvGrpSpPr>
          <p:grpSpPr>
            <a:xfrm>
              <a:off x="5148360" y="4219560"/>
              <a:ext cx="2779560" cy="2277720"/>
              <a:chOff x="5148360" y="4219560"/>
              <a:chExt cx="2779560" cy="2277720"/>
            </a:xfrm>
          </p:grpSpPr>
          <p:sp>
            <p:nvSpPr>
              <p:cNvPr id="143" name="Text Box 14"/>
              <p:cNvSpPr/>
              <p:nvPr/>
            </p:nvSpPr>
            <p:spPr>
              <a:xfrm>
                <a:off x="6336000" y="6091560"/>
                <a:ext cx="1591920" cy="405720"/>
              </a:xfrm>
              <a:prstGeom prst="rect">
                <a:avLst/>
              </a:prstGeom>
              <a:noFill/>
              <a:ln w="316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990033"/>
                    </a:solidFill>
                    <a:latin typeface="Arial"/>
                  </a:rPr>
                  <a:t>4 CO</a:t>
                </a:r>
                <a:r>
                  <a:rPr b="1" lang="en-US" sz="1800" spc="-1" strike="noStrike" baseline="-25000">
                    <a:solidFill>
                      <a:srgbClr val="990033"/>
                    </a:solidFill>
                    <a:latin typeface="Arial"/>
                  </a:rPr>
                  <a:t>2</a:t>
                </a:r>
                <a:r>
                  <a:rPr b="1" lang="en-US" sz="1800" spc="-1" strike="noStrike">
                    <a:solidFill>
                      <a:srgbClr val="990033"/>
                    </a:solidFill>
                    <a:latin typeface="Arial"/>
                  </a:rPr>
                  <a:t>+ 4 H</a:t>
                </a:r>
                <a:r>
                  <a:rPr b="1" lang="en-US" sz="1800" spc="-1" strike="noStrike" baseline="-25000">
                    <a:solidFill>
                      <a:srgbClr val="990033"/>
                    </a:solidFill>
                    <a:latin typeface="Arial"/>
                  </a:rPr>
                  <a:t>2</a:t>
                </a:r>
                <a:r>
                  <a:rPr b="1" lang="en-US" sz="1800" spc="-1" strike="noStrike">
                    <a:solidFill>
                      <a:srgbClr val="990033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Text Box 15"/>
              <p:cNvSpPr/>
              <p:nvPr/>
            </p:nvSpPr>
            <p:spPr>
              <a:xfrm>
                <a:off x="5652360" y="4581000"/>
                <a:ext cx="903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Ciclo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d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Kreb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AutoShape 16"/>
              <p:cNvSpPr/>
              <p:nvPr/>
            </p:nvSpPr>
            <p:spPr>
              <a:xfrm>
                <a:off x="5148360" y="4219560"/>
                <a:ext cx="1941480" cy="1872000"/>
              </a:xfrm>
              <a:custGeom>
                <a:avLst/>
                <a:gdLst>
                  <a:gd name="textAreaLeft" fmla="*/ 0 w 1941480"/>
                  <a:gd name="textAreaRight" fmla="*/ 1941840 w 1941480"/>
                  <a:gd name="textAreaTop" fmla="*/ 0 h 1872000"/>
                  <a:gd name="textAreaBottom" fmla="*/ 1872360 h 1872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4835" y="21600"/>
                      <a:pt x="0" y="16764"/>
                      <a:pt x="0" y="10800"/>
                    </a:cubicBezTo>
                    <a:cubicBezTo>
                      <a:pt x="-1" y="6410"/>
                      <a:pt x="2656" y="2457"/>
                      <a:pt x="6721" y="799"/>
                    </a:cubicBezTo>
                    <a:lnTo>
                      <a:pt x="10800" y="10800"/>
                    </a:lnTo>
                    <a:lnTo>
                      <a:pt x="10799" y="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4835" y="21600"/>
                      <a:pt x="0" y="16764"/>
                      <a:pt x="0" y="10800"/>
                    </a:cubicBezTo>
                    <a:cubicBezTo>
                      <a:pt x="-1" y="6410"/>
                      <a:pt x="2656" y="2457"/>
                      <a:pt x="6721" y="799"/>
                    </a:cubicBezTo>
                  </a:path>
                </a:pathLst>
              </a:custGeom>
              <a:noFill/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AutoShape 19"/>
            <p:cNvSpPr/>
            <p:nvPr/>
          </p:nvSpPr>
          <p:spPr>
            <a:xfrm rot="5760000">
              <a:off x="5351400" y="2949480"/>
              <a:ext cx="720720" cy="1819440"/>
            </a:xfrm>
            <a:custGeom>
              <a:avLst/>
              <a:gdLst>
                <a:gd name="textAreaLeft" fmla="*/ 360360 w 720720"/>
                <a:gd name="textAreaRight" fmla="*/ 721080 w 720720"/>
                <a:gd name="textAreaTop" fmla="*/ 622080 h 1819440"/>
                <a:gd name="textAreaBottom" fmla="*/ 1816560 h 18194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068" y="7454"/>
                  </a:moveTo>
                  <a:cubicBezTo>
                    <a:pt x="21420" y="8534"/>
                    <a:pt x="21600" y="9663"/>
                    <a:pt x="21600" y="10800"/>
                  </a:cubicBezTo>
                  <a:cubicBezTo>
                    <a:pt x="21600" y="16456"/>
                    <a:pt x="17235" y="21154"/>
                    <a:pt x="11595" y="21570"/>
                  </a:cubicBezTo>
                  <a:lnTo>
                    <a:pt x="10800" y="10800"/>
                  </a:lnTo>
                  <a:lnTo>
                    <a:pt x="21068" y="7454"/>
                  </a:lnTo>
                  <a:close/>
                </a:path>
                <a:path fill="none" w="21600" h="21600">
                  <a:moveTo>
                    <a:pt x="21068" y="7454"/>
                  </a:moveTo>
                  <a:cubicBezTo>
                    <a:pt x="21420" y="8534"/>
                    <a:pt x="21600" y="9663"/>
                    <a:pt x="21600" y="10800"/>
                  </a:cubicBezTo>
                  <a:cubicBezTo>
                    <a:pt x="21600" y="16456"/>
                    <a:pt x="17235" y="21154"/>
                    <a:pt x="11595" y="21570"/>
                  </a:cubicBezTo>
                </a:path>
              </a:pathLst>
            </a:custGeom>
            <a:noFill/>
            <a:ln w="4428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33"/>
          <p:cNvGrpSpPr/>
          <p:nvPr/>
        </p:nvGrpSpPr>
        <p:grpSpPr>
          <a:xfrm>
            <a:off x="2700360" y="2060640"/>
            <a:ext cx="3518280" cy="1698480"/>
            <a:chOff x="2700360" y="2060640"/>
            <a:chExt cx="3518280" cy="1698480"/>
          </a:xfrm>
        </p:grpSpPr>
        <p:grpSp>
          <p:nvGrpSpPr>
            <p:cNvPr id="148" name="Group 9"/>
            <p:cNvGrpSpPr/>
            <p:nvPr/>
          </p:nvGrpSpPr>
          <p:grpSpPr>
            <a:xfrm>
              <a:off x="2700360" y="2060640"/>
              <a:ext cx="2357640" cy="503280"/>
              <a:chOff x="2700360" y="2060640"/>
              <a:chExt cx="2357640" cy="503280"/>
            </a:xfrm>
          </p:grpSpPr>
          <p:sp>
            <p:nvSpPr>
              <p:cNvPr id="149" name="Text Box 10"/>
              <p:cNvSpPr/>
              <p:nvPr/>
            </p:nvSpPr>
            <p:spPr>
              <a:xfrm>
                <a:off x="3505680" y="2093400"/>
                <a:ext cx="1552320" cy="368280"/>
              </a:xfrm>
              <a:prstGeom prst="rect">
                <a:avLst/>
              </a:prstGeom>
              <a:noFill/>
              <a:ln w="316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 PIRUV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11"/>
              <p:cNvSpPr/>
              <p:nvPr/>
            </p:nvSpPr>
            <p:spPr>
              <a:xfrm>
                <a:off x="2700360" y="2275920"/>
                <a:ext cx="791280" cy="10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12"/>
              <p:cNvSpPr/>
              <p:nvPr/>
            </p:nvSpPr>
            <p:spPr>
              <a:xfrm>
                <a:off x="2916000" y="2060640"/>
                <a:ext cx="431280" cy="503280"/>
              </a:xfrm>
              <a:prstGeom prst="ellipse">
                <a:avLst/>
              </a:prstGeom>
              <a:solidFill>
                <a:srgbClr val="ffcc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Text Box 18"/>
            <p:cNvSpPr/>
            <p:nvPr/>
          </p:nvSpPr>
          <p:spPr>
            <a:xfrm>
              <a:off x="4035960" y="3390840"/>
              <a:ext cx="1538640" cy="36828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Acetil-Co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Group 20"/>
            <p:cNvGrpSpPr/>
            <p:nvPr/>
          </p:nvGrpSpPr>
          <p:grpSpPr>
            <a:xfrm>
              <a:off x="3556080" y="2492280"/>
              <a:ext cx="2662560" cy="865440"/>
              <a:chOff x="3556080" y="2492280"/>
              <a:chExt cx="2662560" cy="865440"/>
            </a:xfrm>
          </p:grpSpPr>
          <p:sp>
            <p:nvSpPr>
              <p:cNvPr id="154" name="Line 21"/>
              <p:cNvSpPr/>
              <p:nvPr/>
            </p:nvSpPr>
            <p:spPr>
              <a:xfrm>
                <a:off x="4716360" y="2492280"/>
                <a:ext cx="1800" cy="865440"/>
              </a:xfrm>
              <a:prstGeom prst="line">
                <a:avLst/>
              </a:prstGeom>
              <a:ln w="442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Text Box 22"/>
              <p:cNvSpPr/>
              <p:nvPr/>
            </p:nvSpPr>
            <p:spPr>
              <a:xfrm>
                <a:off x="4718160" y="274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"/>
                  </a:rPr>
                  <a:t>PD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AutoShape 23"/>
              <p:cNvSpPr/>
              <p:nvPr/>
            </p:nvSpPr>
            <p:spPr>
              <a:xfrm>
                <a:off x="4141800" y="2778120"/>
                <a:ext cx="574560" cy="434880"/>
              </a:xfrm>
              <a:custGeom>
                <a:avLst/>
                <a:gdLst>
                  <a:gd name="textAreaLeft" fmla="*/ 245880 w 574560"/>
                  <a:gd name="textAreaRight" fmla="*/ 566640 w 574560"/>
                  <a:gd name="textAreaTop" fmla="*/ 21744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1321" y="13238"/>
                    </a:moveTo>
                    <a:cubicBezTo>
                      <a:pt x="20186" y="18133"/>
                      <a:pt x="15825" y="21599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  <a:lnTo>
                      <a:pt x="10800" y="10800"/>
                    </a:lnTo>
                    <a:lnTo>
                      <a:pt x="21321" y="13238"/>
                    </a:lnTo>
                    <a:close/>
                  </a:path>
                  <a:path fill="none" w="21600" h="21600">
                    <a:moveTo>
                      <a:pt x="21321" y="13238"/>
                    </a:moveTo>
                    <a:cubicBezTo>
                      <a:pt x="20186" y="18133"/>
                      <a:pt x="15825" y="21599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</a:path>
                </a:pathLst>
              </a:custGeom>
              <a:noFill/>
              <a:ln w="442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AutoShape 24"/>
              <p:cNvSpPr/>
              <p:nvPr/>
            </p:nvSpPr>
            <p:spPr>
              <a:xfrm flipH="1">
                <a:off x="4716360" y="2708280"/>
                <a:ext cx="433440" cy="504720"/>
              </a:xfrm>
              <a:custGeom>
                <a:avLst/>
                <a:gdLst>
                  <a:gd name="textAreaLeft" fmla="*/ 186120 w 433440"/>
                  <a:gd name="textAreaRight" fmla="*/ 434160 w 43344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487" y="4"/>
                    </a:moveTo>
                    <a:cubicBezTo>
                      <a:pt x="10591" y="1"/>
                      <a:pt x="1069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  <a:lnTo>
                      <a:pt x="10800" y="10800"/>
                    </a:lnTo>
                    <a:lnTo>
                      <a:pt x="10487" y="4"/>
                    </a:lnTo>
                    <a:close/>
                  </a:path>
                  <a:path fill="none" w="21600" h="21600">
                    <a:moveTo>
                      <a:pt x="10487" y="4"/>
                    </a:moveTo>
                    <a:cubicBezTo>
                      <a:pt x="10591" y="1"/>
                      <a:pt x="1069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</a:path>
                </a:pathLst>
              </a:custGeom>
              <a:noFill/>
              <a:ln w="442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25"/>
              <p:cNvSpPr/>
              <p:nvPr/>
            </p:nvSpPr>
            <p:spPr>
              <a:xfrm>
                <a:off x="4939920" y="2492280"/>
                <a:ext cx="85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 NAD</a:t>
                </a:r>
                <a:r>
                  <a:rPr b="1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Text Box 26"/>
              <p:cNvSpPr/>
              <p:nvPr/>
            </p:nvSpPr>
            <p:spPr>
              <a:xfrm>
                <a:off x="4949640" y="2997360"/>
                <a:ext cx="126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 NADH+H</a:t>
                </a:r>
                <a:r>
                  <a:rPr b="1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Text Box 27"/>
              <p:cNvSpPr/>
              <p:nvPr/>
            </p:nvSpPr>
            <p:spPr>
              <a:xfrm>
                <a:off x="3556080" y="249228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CoA-SH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Text Box 28"/>
              <p:cNvSpPr/>
              <p:nvPr/>
            </p:nvSpPr>
            <p:spPr>
              <a:xfrm>
                <a:off x="3948840" y="2948040"/>
                <a:ext cx="5493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AutoShape 29"/>
              <p:cNvSpPr/>
              <p:nvPr/>
            </p:nvSpPr>
            <p:spPr>
              <a:xfrm>
                <a:off x="4157640" y="2706840"/>
                <a:ext cx="576360" cy="434880"/>
              </a:xfrm>
              <a:custGeom>
                <a:avLst/>
                <a:gdLst>
                  <a:gd name="textAreaLeft" fmla="*/ 287280 w 576360"/>
                  <a:gd name="textAreaRight" fmla="*/ 560520 w 576360"/>
                  <a:gd name="textAreaTop" fmla="*/ 0 h 434880"/>
                  <a:gd name="textAreaBottom" fmla="*/ 217440 h 434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5382" y="0"/>
                      <a:pt x="19465" y="2891"/>
                      <a:pt x="20987" y="7213"/>
                    </a:cubicBezTo>
                    <a:lnTo>
                      <a:pt x="10800" y="10800"/>
                    </a:lnTo>
                    <a:lnTo>
                      <a:pt x="10799" y="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5382" y="0"/>
                      <a:pt x="19465" y="2891"/>
                      <a:pt x="20987" y="7213"/>
                    </a:cubicBezTo>
                  </a:path>
                </a:pathLst>
              </a:custGeom>
              <a:noFill/>
              <a:ln w="442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Oval 30"/>
          <p:cNvSpPr/>
          <p:nvPr/>
        </p:nvSpPr>
        <p:spPr>
          <a:xfrm rot="18720000">
            <a:off x="4751280" y="2530440"/>
            <a:ext cx="2449440" cy="4824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4140360" y="981000"/>
            <a:ext cx="93636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3132000" y="907920"/>
            <a:ext cx="3095640" cy="122580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115920" y="6373800"/>
            <a:ext cx="22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ans Krebs,193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9:00:43Z</dcterms:created>
  <dc:creator>Colossus User</dc:creator>
  <dc:description/>
  <dc:language>en-US</dc:language>
  <cp:lastModifiedBy>Ana Anzulovich</cp:lastModifiedBy>
  <dcterms:modified xsi:type="dcterms:W3CDTF">2015-09-07T00:53:10Z</dcterms:modified>
  <cp:revision>39</cp:revision>
  <dc:subject/>
  <dc:title>Diapositiva 1</dc:title>
</cp:coreProperties>
</file>